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0C2-7AF8-4209-A295-0B6814BC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766-C5C7-4D88-8A3E-A08646E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957-912E-4AD7-A298-320FB486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436-EB12-4B6E-9865-230D9063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A6A-9A6E-4772-94C5-FFE254D9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E57-5A95-4012-BE8C-F5FF0AB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FBF-F093-4DD3-99AA-DA9D053C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B72-83E0-4FE4-868F-1FF7C1B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EBF-791E-4B21-8A82-0C1A7BB3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1C9-0FC6-4847-BC4E-96DF542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537-A3F6-4426-B63F-6A123E3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69B-90A0-40D5-8EE2-65C59DB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D02-E34A-41E0-849A-0489B4979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87200" y="457200"/>
            <a:ext cx="9208800" cy="18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en-US" sz="6000" spc="-1" strike="noStrike">
                <a:solidFill>
                  <a:srgbClr val="000000"/>
                </a:solidFill>
                <a:latin typeface="Imprint MT Shadow"/>
              </a:rPr>
              <a:t>The Approximate GCD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Imprint MT Shadow"/>
              </a:rPr>
              <a:t>of Inexact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46360" y="2590920"/>
            <a:ext cx="38642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 Ze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and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H. Day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eastern Illinois University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6640" y="640080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AC ’04,   Santander, Spain,  July 6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8600" y="4114800"/>
            <a:ext cx="4952880" cy="2437920"/>
            <a:chOff x="228600" y="4114800"/>
            <a:chExt cx="4952880" cy="2437920"/>
          </a:xfrm>
        </p:grpSpPr>
        <p:sp>
          <p:nvSpPr>
            <p:cNvPr id="45" name=""/>
            <p:cNvSpPr/>
            <p:nvPr/>
          </p:nvSpPr>
          <p:spPr>
            <a:xfrm>
              <a:off x="2770920" y="4975200"/>
              <a:ext cx="930600" cy="860400"/>
            </a:xfrm>
            <a:custGeom>
              <a:avLst/>
              <a:gdLst>
                <a:gd name="textAreaLeft" fmla="*/ 145440 w 930600"/>
                <a:gd name="textAreaRight" fmla="*/ 814320 w 930600"/>
                <a:gd name="textAreaTop" fmla="*/ 214920 h 860400"/>
                <a:gd name="textAreaBottom" fmla="*/ 64548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" name=""/>
            <p:cNvGraphicFramePr/>
            <p:nvPr/>
          </p:nvGraphicFramePr>
          <p:xfrm>
            <a:off x="3860640" y="4545000"/>
            <a:ext cx="1320840" cy="169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60640" y="4545000"/>
                      <a:ext cx="1320840" cy="16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1172880" y="4114800"/>
            <a:ext cx="1320840" cy="169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2880" y="4114800"/>
                      <a:ext cx="1320840" cy="16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228600" y="4831920"/>
            <a:ext cx="1314720" cy="172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831920"/>
                      <a:ext cx="131472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336840" y="400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24080" y="401760"/>
            <a:ext cx="2742840" cy="2253960"/>
            <a:chOff x="3124080" y="401760"/>
            <a:chExt cx="2742840" cy="2253960"/>
          </a:xfrm>
        </p:grpSpPr>
        <p:sp>
          <p:nvSpPr>
            <p:cNvPr id="155" name=""/>
            <p:cNvSpPr/>
            <p:nvPr/>
          </p:nvSpPr>
          <p:spPr>
            <a:xfrm flipH="1">
              <a:off x="3809520" y="184788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585400">
              <a:off x="3720960" y="228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3124080" y="2305080"/>
                  <a:ext cx="6098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 rot="19428600">
              <a:off x="3243600" y="1142640"/>
              <a:ext cx="266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3366"/>
                  </a:solidFill>
                  <a:latin typeface="Times New Roman"/>
                </a:rPr>
                <a:t>perturbe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olynomial pai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572080" y="1417680"/>
            <a:ext cx="2532960" cy="672840"/>
            <a:chOff x="5572080" y="1417680"/>
            <a:chExt cx="2532960" cy="672840"/>
          </a:xfrm>
        </p:grpSpPr>
        <p:sp>
          <p:nvSpPr>
            <p:cNvPr id="160" name=""/>
            <p:cNvSpPr/>
            <p:nvPr/>
          </p:nvSpPr>
          <p:spPr>
            <a:xfrm rot="3000">
              <a:off x="5948640" y="1752120"/>
              <a:ext cx="21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origi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nomial p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572080" y="1417680"/>
              <a:ext cx="590760" cy="439560"/>
              <a:chOff x="5572080" y="1417680"/>
              <a:chExt cx="590760" cy="439560"/>
            </a:xfrm>
          </p:grpSpPr>
          <p:sp>
            <p:nvSpPr>
              <p:cNvPr id="162" name=""/>
              <p:cNvSpPr/>
              <p:nvPr/>
            </p:nvSpPr>
            <p:spPr>
              <a:xfrm rot="20585400">
                <a:off x="5867280" y="1771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5572080" y="1417680"/>
                    <a:ext cx="59076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64" name=""/>
          <p:cNvGrpSpPr/>
          <p:nvPr/>
        </p:nvGrpSpPr>
        <p:grpSpPr>
          <a:xfrm>
            <a:off x="3809880" y="2362320"/>
            <a:ext cx="3142800" cy="965880"/>
            <a:chOff x="3809880" y="2362320"/>
            <a:chExt cx="3142800" cy="965880"/>
          </a:xfrm>
        </p:grpSpPr>
        <p:sp>
          <p:nvSpPr>
            <p:cNvPr id="165" name=""/>
            <p:cNvSpPr/>
            <p:nvPr/>
          </p:nvSpPr>
          <p:spPr>
            <a:xfrm>
              <a:off x="3809880" y="236232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585400">
              <a:off x="4570560" y="2985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7400" y="2990880"/>
              <a:ext cx="23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compu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nomial pai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886200" y="2887560"/>
                  <a:ext cx="59040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228600" y="152280"/>
            <a:ext cx="3964320" cy="444600"/>
            <a:chOff x="228600" y="152280"/>
            <a:chExt cx="3964320" cy="444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28600" y="152280"/>
                  <a:ext cx="91440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s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1223280" y="22860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 space of polynomial pai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974680" y="-634680"/>
            <a:ext cx="11429280" cy="7982640"/>
            <a:chOff x="2974680" y="-634680"/>
            <a:chExt cx="11429280" cy="7982640"/>
          </a:xfrm>
        </p:grpSpPr>
        <p:sp>
          <p:nvSpPr>
            <p:cNvPr id="173" name=""/>
            <p:cNvSpPr/>
            <p:nvPr/>
          </p:nvSpPr>
          <p:spPr>
            <a:xfrm flipH="1" rot="20586000">
              <a:off x="3936960" y="689760"/>
              <a:ext cx="99050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974680" y="4572000"/>
              <a:ext cx="3956400" cy="752400"/>
              <a:chOff x="2974680" y="4572000"/>
              <a:chExt cx="3956400" cy="752400"/>
            </a:xfrm>
          </p:grpSpPr>
          <p:sp>
            <p:nvSpPr>
              <p:cNvPr id="175" name=""/>
              <p:cNvSpPr/>
              <p:nvPr/>
            </p:nvSpPr>
            <p:spPr>
              <a:xfrm>
                <a:off x="2974680" y="457200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nifo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3368520" y="4992480"/>
                    <a:ext cx="3562560" cy="33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CD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77" name=""/>
          <p:cNvGrpSpPr/>
          <p:nvPr/>
        </p:nvGrpSpPr>
        <p:grpSpPr>
          <a:xfrm>
            <a:off x="304920" y="5791320"/>
            <a:ext cx="3733560" cy="685800"/>
            <a:chOff x="304920" y="5791320"/>
            <a:chExt cx="3733560" cy="685800"/>
          </a:xfrm>
        </p:grpSpPr>
        <p:grpSp>
          <p:nvGrpSpPr>
            <p:cNvPr id="178" name=""/>
            <p:cNvGrpSpPr/>
            <p:nvPr/>
          </p:nvGrpSpPr>
          <p:grpSpPr>
            <a:xfrm>
              <a:off x="384480" y="5791320"/>
              <a:ext cx="3501000" cy="644400"/>
              <a:chOff x="384480" y="5791320"/>
              <a:chExt cx="3501000" cy="644400"/>
            </a:xfrm>
          </p:grpSpPr>
          <p:sp>
            <p:nvSpPr>
              <p:cNvPr id="179" name=""/>
              <p:cNvSpPr/>
              <p:nvPr/>
            </p:nvSpPr>
            <p:spPr>
              <a:xfrm>
                <a:off x="384480" y="5867280"/>
                <a:ext cx="138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inimiz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0" name=""/>
                  <p:cNvSpPr txBox="1"/>
                  <p:nvPr/>
                </p:nvSpPr>
                <p:spPr>
                  <a:xfrm>
                    <a:off x="1904400" y="5791320"/>
                    <a:ext cx="1981080" cy="64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1" name=""/>
            <p:cNvSpPr/>
            <p:nvPr/>
          </p:nvSpPr>
          <p:spPr>
            <a:xfrm>
              <a:off x="304920" y="5791320"/>
              <a:ext cx="373356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15040" y="601992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east square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3680" y="6094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D-finding i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5120" y="3200400"/>
            <a:ext cx="5854680" cy="503280"/>
            <a:chOff x="915120" y="3200400"/>
            <a:chExt cx="5854680" cy="503280"/>
          </a:xfrm>
        </p:grpSpPr>
        <p:sp>
          <p:nvSpPr>
            <p:cNvPr id="186" name=""/>
            <p:cNvSpPr/>
            <p:nvPr/>
          </p:nvSpPr>
          <p:spPr>
            <a:xfrm>
              <a:off x="915120" y="320040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ax-degre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4038480" y="3243240"/>
                  <a:ext cx="9590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g</m:t>
                      </m:r>
                      <m:r>
                        <m:t xml:space="preserve">(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258520" y="32004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s ma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15840" y="4419720"/>
            <a:ext cx="6793920" cy="747720"/>
            <a:chOff x="915840" y="4419720"/>
            <a:chExt cx="6793920" cy="747720"/>
          </a:xfrm>
        </p:grpSpPr>
        <p:sp>
          <p:nvSpPr>
            <p:cNvPr id="190" name=""/>
            <p:cNvSpPr/>
            <p:nvPr/>
          </p:nvSpPr>
          <p:spPr>
            <a:xfrm>
              <a:off x="915840" y="460080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in-dista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898800" y="4419720"/>
                  <a:ext cx="214956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(</m:t>
                              </m:r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g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t xml:space="preserve">g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6248880" y="45244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s mi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834480" y="1371600"/>
            <a:ext cx="6548760" cy="1218960"/>
            <a:chOff x="834480" y="1371600"/>
            <a:chExt cx="6548760" cy="1218960"/>
          </a:xfrm>
        </p:grpSpPr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5840" y="1371600"/>
                  <a:ext cx="349740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C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3124080" y="1981080"/>
                  <a:ext cx="30477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  <m:e/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≈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</m:m>
                      <m:r>
                        <m:t xml:space="preserve">≤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834480" y="1447560"/>
              <a:ext cx="27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earnes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60280" y="763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nt history of univariate AG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54080" y="685800"/>
            <a:ext cx="8511480" cy="3507840"/>
            <a:chOff x="154080" y="685800"/>
            <a:chExt cx="8511480" cy="3507840"/>
          </a:xfrm>
        </p:grpSpPr>
        <p:sp>
          <p:nvSpPr>
            <p:cNvPr id="200" name=""/>
            <p:cNvSpPr/>
            <p:nvPr/>
          </p:nvSpPr>
          <p:spPr>
            <a:xfrm>
              <a:off x="538560" y="1295280"/>
              <a:ext cx="71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 Eucli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kermann-Labahn, Hribernig-Stetter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7840" y="1981080"/>
              <a:ext cx="740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ulta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less-Gianni-Trager-Watt, Emiris-Galligo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(SVD, QR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upprech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less-Watt-Zhi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8920" y="2971800"/>
              <a:ext cx="8126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timiz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less-Gianni-Trager-Wat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in-Corless-Corless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rmarkar-Lakshman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6400" y="3733920"/>
              <a:ext cx="56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ot-match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n, Verschelde-Wang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080" y="6858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Arial"/>
                </a:rPr>
                <a:t>Method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4200" y="4383000"/>
            <a:ext cx="5651640" cy="2212560"/>
            <a:chOff x="214200" y="4383000"/>
            <a:chExt cx="5651640" cy="2212560"/>
          </a:xfrm>
        </p:grpSpPr>
        <p:sp>
          <p:nvSpPr>
            <p:cNvPr id="206" name=""/>
            <p:cNvSpPr/>
            <p:nvPr/>
          </p:nvSpPr>
          <p:spPr>
            <a:xfrm>
              <a:off x="214200" y="438300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Arial"/>
                </a:rPr>
                <a:t>Softwa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6560" y="4992840"/>
              <a:ext cx="5039280" cy="16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psilonGCD: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kermann-Labah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siGCD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kermann-Labah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RGCD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less-Watt-Z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Maple SNAP Packag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276720" y="2057400"/>
            <a:ext cx="2971800" cy="1371600"/>
            <a:chOff x="3276720" y="2057400"/>
            <a:chExt cx="2971800" cy="1371600"/>
          </a:xfrm>
        </p:grpSpPr>
        <p:sp>
          <p:nvSpPr>
            <p:cNvPr id="209" name=""/>
            <p:cNvSpPr/>
            <p:nvPr/>
          </p:nvSpPr>
          <p:spPr>
            <a:xfrm>
              <a:off x="3276720" y="3048120"/>
              <a:ext cx="2971800" cy="3808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6720" y="2057400"/>
              <a:ext cx="2971800" cy="3808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62120" y="5791320"/>
            <a:ext cx="472428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60640" y="2286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History of multivariate AG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4320" y="1335240"/>
            <a:ext cx="601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saki-Sasak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sel-Li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i-Li-Nod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 Resul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i-Liang, Ochi-Noda-S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360" y="685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6360" y="3429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50800" y="4038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7240" y="5297400"/>
            <a:ext cx="65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ack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D methods/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oth univariate and multivariate polynom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82680" y="762120"/>
            <a:ext cx="3655800" cy="571320"/>
            <a:chOff x="382680" y="762120"/>
            <a:chExt cx="3655800" cy="571320"/>
          </a:xfrm>
        </p:grpSpPr>
        <p:sp>
          <p:nvSpPr>
            <p:cNvPr id="221" name=""/>
            <p:cNvSpPr/>
            <p:nvPr/>
          </p:nvSpPr>
          <p:spPr>
            <a:xfrm>
              <a:off x="382680" y="83628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600200" y="762120"/>
                  <a:ext cx="24382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g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s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" name=""/>
          <p:cNvGrpSpPr/>
          <p:nvPr/>
        </p:nvGrpSpPr>
        <p:grpSpPr>
          <a:xfrm>
            <a:off x="988920" y="1523880"/>
            <a:ext cx="6353280" cy="1828800"/>
            <a:chOff x="988920" y="1523880"/>
            <a:chExt cx="6353280" cy="1828800"/>
          </a:xfrm>
        </p:grpSpPr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1981080" y="2133360"/>
                  <a:ext cx="209520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v</m:t>
                                </m:r>
                              </m:e>
                              <m:e/>
                              <m:e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</m:e>
                              <m:e/>
                              <m:e>
                                <m:r>
                                  <m:t xml:space="preserve">g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5" name=""/>
            <p:cNvGrpSpPr/>
            <p:nvPr/>
          </p:nvGrpSpPr>
          <p:grpSpPr>
            <a:xfrm>
              <a:off x="988920" y="1523880"/>
              <a:ext cx="6353280" cy="469800"/>
              <a:chOff x="988920" y="1523880"/>
              <a:chExt cx="6353280" cy="469800"/>
            </a:xfrm>
          </p:grpSpPr>
          <p:sp>
            <p:nvSpPr>
              <p:cNvPr id="226" name=""/>
              <p:cNvSpPr/>
              <p:nvPr/>
            </p:nvSpPr>
            <p:spPr>
              <a:xfrm>
                <a:off x="988920" y="1523880"/>
                <a:ext cx="29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et up a system for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7" name=""/>
                  <p:cNvSpPr txBox="1"/>
                  <p:nvPr/>
                </p:nvSpPr>
                <p:spPr>
                  <a:xfrm>
                    <a:off x="4089600" y="1523880"/>
                    <a:ext cx="325260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28" name=""/>
          <p:cNvGrpSpPr/>
          <p:nvPr/>
        </p:nvGrpSpPr>
        <p:grpSpPr>
          <a:xfrm>
            <a:off x="379440" y="3505320"/>
            <a:ext cx="5037120" cy="603000"/>
            <a:chOff x="379440" y="3505320"/>
            <a:chExt cx="5037120" cy="603000"/>
          </a:xfrm>
        </p:grpSpPr>
        <p:sp>
          <p:nvSpPr>
            <p:cNvPr id="229" name=""/>
            <p:cNvSpPr/>
            <p:nvPr/>
          </p:nvSpPr>
          <p:spPr>
            <a:xfrm>
              <a:off x="379440" y="3581280"/>
              <a:ext cx="25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, in vector 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3200400" y="3505320"/>
                  <a:ext cx="221616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"/>
          <p:cNvGrpSpPr/>
          <p:nvPr/>
        </p:nvGrpSpPr>
        <p:grpSpPr>
          <a:xfrm>
            <a:off x="1600200" y="3505320"/>
            <a:ext cx="5532120" cy="1980720"/>
            <a:chOff x="1600200" y="3505320"/>
            <a:chExt cx="5532120" cy="1980720"/>
          </a:xfrm>
        </p:grpSpPr>
        <p:sp>
          <p:nvSpPr>
            <p:cNvPr id="232" name=""/>
            <p:cNvSpPr/>
            <p:nvPr/>
          </p:nvSpPr>
          <p:spPr>
            <a:xfrm>
              <a:off x="5992560" y="350532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600200" y="4190760"/>
              <a:ext cx="5532120" cy="1295280"/>
              <a:chOff x="1600200" y="4190760"/>
              <a:chExt cx="5532120" cy="1295280"/>
            </a:xfrm>
          </p:grpSpPr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1600200" y="4190760"/>
                    <a:ext cx="2959560" cy="128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</m:acc>
                                    </m:e>
                                    <m:sup>
                                      <m:r>
                                        <m:t xml:space="preserve">H</m:t>
                                      </m:r>
                                    </m:sup>
                                  </m:sSup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)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)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5" name=""/>
                  <p:cNvSpPr txBox="1"/>
                  <p:nvPr/>
                </p:nvSpPr>
                <p:spPr>
                  <a:xfrm>
                    <a:off x="6028560" y="4244040"/>
                    <a:ext cx="1103760" cy="12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6" name=""/>
              <p:cNvSpPr/>
              <p:nvPr/>
            </p:nvSpPr>
            <p:spPr>
              <a:xfrm>
                <a:off x="5058000" y="466956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990720" y="5562720"/>
            <a:ext cx="4724280" cy="1143000"/>
            <a:chOff x="990720" y="5562720"/>
            <a:chExt cx="4724280" cy="1143000"/>
          </a:xfrm>
        </p:grpSpPr>
        <p:sp>
          <p:nvSpPr>
            <p:cNvPr id="238" name=""/>
            <p:cNvSpPr/>
            <p:nvPr/>
          </p:nvSpPr>
          <p:spPr>
            <a:xfrm>
              <a:off x="1146600" y="594360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nimi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990720" y="5562720"/>
              <a:ext cx="4724280" cy="1143000"/>
              <a:chOff x="990720" y="5562720"/>
              <a:chExt cx="4724280" cy="1143000"/>
            </a:xfrm>
          </p:grpSpPr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2895480" y="5715000"/>
                    <a:ext cx="2500560" cy="85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>
                <a:off x="990720" y="5562720"/>
                <a:ext cx="4724280" cy="1143000"/>
              </a:xfrm>
              <a:prstGeom prst="rect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4497840" y="838080"/>
            <a:ext cx="32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GCD deg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920" y="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 strate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2120" y="0"/>
            <a:ext cx="4819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ulate a well-pose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8600" y="152280"/>
                <a:ext cx="294804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H</m:t>
                                  </m:r>
                                </m:sup>
                              </m:sSup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w</m:t>
                              </m:r>
                              <m:r>
                                <m:t xml:space="preserve">)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-19800" y="2743200"/>
            <a:ext cx="6260040" cy="1434600"/>
          </a:xfrm>
          <a:prstGeom prst="rect">
            <a:avLst/>
          </a:prstGeom>
          <a:solidFill>
            <a:srgbClr val="a1f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The Jacobian is of full ran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are co-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5360" y="152280"/>
            <a:ext cx="5256360" cy="2089440"/>
            <a:chOff x="3735360" y="152280"/>
            <a:chExt cx="5256360" cy="208944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4419720" y="685800"/>
                  <a:ext cx="4572000" cy="15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p>
                              </m:e>
                              <m:e/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"/>
            <p:cNvSpPr/>
            <p:nvPr/>
          </p:nvSpPr>
          <p:spPr>
            <a:xfrm>
              <a:off x="3735360" y="15228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s Jacobia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32440" y="4343400"/>
            <a:ext cx="7241040" cy="2212200"/>
            <a:chOff x="532440" y="4343400"/>
            <a:chExt cx="7241040" cy="2212200"/>
          </a:xfrm>
        </p:grpSpPr>
        <p:sp>
          <p:nvSpPr>
            <p:cNvPr id="252" name=""/>
            <p:cNvSpPr/>
            <p:nvPr/>
          </p:nvSpPr>
          <p:spPr>
            <a:xfrm>
              <a:off x="532440" y="4343400"/>
              <a:ext cx="72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other words: if the AGCD degre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correct, t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1965240" y="4952880"/>
                  <a:ext cx="481176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,</m:t>
                          </m:r>
                          <m:r>
                            <m:t xml:space="preserve">v</m:t>
                          </m:r>
                          <m:r>
                            <m:t xml:space="preserve">,</m:t>
                          </m:r>
                          <m:r>
                            <m:t xml:space="preserve">w</m:t>
                          </m:r>
                          <m:r>
                            <m:t xml:space="preserve">)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lim>
                      </m:limLow>
                      <m:sSub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u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</m:d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"/>
            <p:cNvSpPr/>
            <p:nvPr/>
          </p:nvSpPr>
          <p:spPr>
            <a:xfrm>
              <a:off x="690840" y="6095880"/>
              <a:ext cx="45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a regular,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well-pos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lem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69520" y="228600"/>
            <a:ext cx="553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lustration of the reformulated probl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553080" y="152280"/>
                <a:ext cx="1828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609480" y="1427040"/>
            <a:ext cx="2498400" cy="2043360"/>
            <a:chOff x="609480" y="1427040"/>
            <a:chExt cx="2498400" cy="2043360"/>
          </a:xfrm>
        </p:grpSpPr>
        <p:sp>
          <p:nvSpPr>
            <p:cNvPr id="259" name=""/>
            <p:cNvSpPr/>
            <p:nvPr/>
          </p:nvSpPr>
          <p:spPr>
            <a:xfrm flipH="1">
              <a:off x="1050480" y="266688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09480" y="1427040"/>
              <a:ext cx="2426760" cy="2043360"/>
              <a:chOff x="609480" y="1427040"/>
              <a:chExt cx="2426760" cy="2043360"/>
            </a:xfrm>
          </p:grpSpPr>
          <p:sp>
            <p:nvSpPr>
              <p:cNvPr id="261" name=""/>
              <p:cNvSpPr/>
              <p:nvPr/>
            </p:nvSpPr>
            <p:spPr>
              <a:xfrm rot="20585400">
                <a:off x="961920" y="3106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353000">
                <a:off x="745920" y="2133360"/>
                <a:ext cx="2438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</a:rPr>
                  <a:t>perturb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polynomial pa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3" name=""/>
                  <p:cNvSpPr txBox="1"/>
                  <p:nvPr/>
                </p:nvSpPr>
                <p:spPr>
                  <a:xfrm>
                    <a:off x="609480" y="2957400"/>
                    <a:ext cx="331920" cy="51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4" name=""/>
            <p:cNvSpPr/>
            <p:nvPr/>
          </p:nvSpPr>
          <p:spPr>
            <a:xfrm rot="20585400">
              <a:off x="961920" y="3120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9353000">
              <a:off x="746280" y="214740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perturb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nomial p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114720" y="2581200"/>
            <a:ext cx="5547960" cy="552600"/>
            <a:chOff x="3114720" y="2581200"/>
            <a:chExt cx="5547960" cy="552600"/>
          </a:xfrm>
        </p:grpSpPr>
        <p:sp>
          <p:nvSpPr>
            <p:cNvPr id="267" name=""/>
            <p:cNvSpPr/>
            <p:nvPr/>
          </p:nvSpPr>
          <p:spPr>
            <a:xfrm rot="20585400">
              <a:off x="3124080" y="25905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3000">
              <a:off x="5951520" y="2666880"/>
              <a:ext cx="27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</a:rPr>
                <a:t>origi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nomial pair (f,g)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276720" y="2590920"/>
                  <a:ext cx="25938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"/>
          <p:cNvGrpSpPr/>
          <p:nvPr/>
        </p:nvGrpSpPr>
        <p:grpSpPr>
          <a:xfrm>
            <a:off x="1066680" y="3200400"/>
            <a:ext cx="846360" cy="690480"/>
            <a:chOff x="1066680" y="3200400"/>
            <a:chExt cx="846360" cy="690480"/>
          </a:xfrm>
        </p:grpSpPr>
        <p:sp>
          <p:nvSpPr>
            <p:cNvPr id="271" name=""/>
            <p:cNvSpPr/>
            <p:nvPr/>
          </p:nvSpPr>
          <p:spPr>
            <a:xfrm rot="20585400">
              <a:off x="1827360" y="3804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32004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981080" y="3733920"/>
            <a:ext cx="6255000" cy="512640"/>
            <a:chOff x="1981080" y="3733920"/>
            <a:chExt cx="6255000" cy="512640"/>
          </a:xfrm>
        </p:grpSpPr>
        <p:sp>
          <p:nvSpPr>
            <p:cNvPr id="274" name=""/>
            <p:cNvSpPr/>
            <p:nvPr/>
          </p:nvSpPr>
          <p:spPr>
            <a:xfrm>
              <a:off x="4501440" y="3809880"/>
              <a:ext cx="373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jected polynomials with computed G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981080" y="3733920"/>
                  <a:ext cx="25336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/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632880" y="184320"/>
            <a:ext cx="11027880" cy="7982640"/>
            <a:chOff x="632880" y="184320"/>
            <a:chExt cx="11027880" cy="7982640"/>
          </a:xfrm>
        </p:grpSpPr>
        <p:grpSp>
          <p:nvGrpSpPr>
            <p:cNvPr id="277" name=""/>
            <p:cNvGrpSpPr/>
            <p:nvPr/>
          </p:nvGrpSpPr>
          <p:grpSpPr>
            <a:xfrm>
              <a:off x="632880" y="184320"/>
              <a:ext cx="11027880" cy="7982640"/>
              <a:chOff x="632880" y="184320"/>
              <a:chExt cx="11027880" cy="7982640"/>
            </a:xfrm>
          </p:grpSpPr>
          <p:sp>
            <p:nvSpPr>
              <p:cNvPr id="278" name=""/>
              <p:cNvSpPr/>
              <p:nvPr/>
            </p:nvSpPr>
            <p:spPr>
              <a:xfrm flipH="1" rot="20586000">
                <a:off x="1193760" y="1508760"/>
                <a:ext cx="9905040" cy="533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0212200">
                <a:off x="3048480" y="167616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jorative manifo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5410080" y="1447920"/>
                  <a:ext cx="182880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743200" y="5105520"/>
                <a:ext cx="5700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/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sub/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κ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-1226160" y="6095880"/>
            <a:ext cx="105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problem becomes </a:t>
            </a:r>
            <a:r>
              <a:rPr b="0" lang="en-US" sz="2800" spc="-1" strike="noStrike">
                <a:solidFill>
                  <a:srgbClr val="0000cc"/>
                </a:solidFill>
                <a:latin typeface="Monotype Corsiva"/>
              </a:rPr>
              <a:t>well-posed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, and often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well-condition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0280" y="609480"/>
            <a:ext cx="6946200" cy="1252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ormulated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a pai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v, u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 is nearest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, 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.t. degree constraint on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 = G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, q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12960" y="2286000"/>
            <a:ext cx="7155000" cy="535680"/>
            <a:chOff x="1812960" y="2286000"/>
            <a:chExt cx="7155000" cy="53568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428640" y="2286000"/>
                  <a:ext cx="24386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"/>
            <p:cNvSpPr/>
            <p:nvPr/>
          </p:nvSpPr>
          <p:spPr>
            <a:xfrm>
              <a:off x="1812960" y="236196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Or, sol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8680" y="2361960"/>
              <a:ext cx="332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in least squares s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" y="3124080"/>
            <a:ext cx="3809880" cy="380880"/>
            <a:chOff x="457200" y="3124080"/>
            <a:chExt cx="3809880" cy="38088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457200" y="3124080"/>
                  <a:ext cx="1600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>
              <a:off x="2057760" y="312408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 full-rank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1280" y="32000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340160" y="3124080"/>
            <a:ext cx="28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is 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3657600"/>
            <a:ext cx="8199360" cy="2505240"/>
            <a:chOff x="838080" y="3657600"/>
            <a:chExt cx="8199360" cy="250524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838080" y="4316400"/>
                  <a:ext cx="7942320" cy="16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4338360" y="3657600"/>
              <a:ext cx="469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Gauss-Newton iteration locally conver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5410080" y="5780160"/>
                  <a:ext cx="228600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9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4360" y="152280"/>
            <a:ext cx="75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ques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How to determine the GC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29880" y="914400"/>
            <a:ext cx="4389840" cy="492120"/>
            <a:chOff x="929880" y="914400"/>
            <a:chExt cx="4389840" cy="492120"/>
          </a:xfrm>
        </p:grpSpPr>
        <p:sp>
          <p:nvSpPr>
            <p:cNvPr id="302" name=""/>
            <p:cNvSpPr/>
            <p:nvPr/>
          </p:nvSpPr>
          <p:spPr>
            <a:xfrm>
              <a:off x="929880" y="9144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2057400" y="914400"/>
                  <a:ext cx="13874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≈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962520" y="990360"/>
                  <a:ext cx="1357200" cy="4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≈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1006920" y="1600200"/>
            <a:ext cx="6576480" cy="1108080"/>
            <a:chOff x="1006920" y="1600200"/>
            <a:chExt cx="6576480" cy="1108080"/>
          </a:xfrm>
        </p:grpSpPr>
        <p:sp>
          <p:nvSpPr>
            <p:cNvPr id="306" name=""/>
            <p:cNvSpPr/>
            <p:nvPr/>
          </p:nvSpPr>
          <p:spPr>
            <a:xfrm>
              <a:off x="1006920" y="19400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130640" y="1908000"/>
                  <a:ext cx="3452760" cy="49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w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⋅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179800" y="1600200"/>
                  <a:ext cx="178740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w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692360" y="2895480"/>
                <a:ext cx="3481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g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828360" y="5334120"/>
            <a:ext cx="8186040" cy="1434960"/>
            <a:chOff x="828360" y="5334120"/>
            <a:chExt cx="8186040" cy="1434960"/>
          </a:xfrm>
        </p:grpSpPr>
        <p:sp>
          <p:nvSpPr>
            <p:cNvPr id="311" name=""/>
            <p:cNvSpPr/>
            <p:nvPr/>
          </p:nvSpPr>
          <p:spPr>
            <a:xfrm>
              <a:off x="1087200" y="5334120"/>
              <a:ext cx="6945840" cy="8254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GCD structure is determined by compu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approximate 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Sylvester matr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8360" y="6400800"/>
              <a:ext cx="81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 rank-revealing method and its application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T. Y. Li and Z. Zeng, to appear: SI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18280" y="3048120"/>
            <a:ext cx="4620240" cy="2013840"/>
            <a:chOff x="818280" y="3048120"/>
            <a:chExt cx="4620240" cy="2013840"/>
          </a:xfrm>
        </p:grpSpPr>
        <p:sp>
          <p:nvSpPr>
            <p:cNvPr id="314" name=""/>
            <p:cNvSpPr/>
            <p:nvPr/>
          </p:nvSpPr>
          <p:spPr>
            <a:xfrm>
              <a:off x="818280" y="4114800"/>
              <a:ext cx="462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The Sylvester Resultant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is </a:t>
              </a:r>
              <a:r>
                <a:rPr b="0" lang="en-US" sz="2400" spc="-1" strike="noStrike">
                  <a:solidFill>
                    <a:srgbClr val="333399"/>
                  </a:solidFill>
                  <a:latin typeface="Monotype Corsiva"/>
                </a:rPr>
                <a:t>approximately</a:t>
              </a: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 rank-de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6520" y="3048120"/>
              <a:ext cx="22860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77360" y="76320"/>
            <a:ext cx="41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univariate polynomial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7440" y="914400"/>
            <a:ext cx="51901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termine the GCD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5080" y="1600200"/>
            <a:ext cx="1897920" cy="1523880"/>
            <a:chOff x="235080" y="1600200"/>
            <a:chExt cx="1897920" cy="1523880"/>
          </a:xfrm>
        </p:grpSpPr>
        <p:sp>
          <p:nvSpPr>
            <p:cNvPr id="319" name=""/>
            <p:cNvSpPr/>
            <p:nvPr/>
          </p:nvSpPr>
          <p:spPr>
            <a:xfrm>
              <a:off x="235080" y="2127600"/>
              <a:ext cx="118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,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384920" y="1600200"/>
              <a:ext cx="748080" cy="1523880"/>
              <a:chOff x="1384920" y="1600200"/>
              <a:chExt cx="748080" cy="1523880"/>
            </a:xfrm>
          </p:grpSpPr>
          <p:sp>
            <p:nvSpPr>
              <p:cNvPr id="321" name=""/>
              <p:cNvSpPr/>
              <p:nvPr/>
            </p:nvSpPr>
            <p:spPr>
              <a:xfrm>
                <a:off x="1384920" y="1600200"/>
                <a:ext cx="68040" cy="1523880"/>
              </a:xfrm>
              <a:custGeom>
                <a:avLst/>
                <a:gdLst>
                  <a:gd name="textAreaLeft" fmla="*/ 19800 w 68040"/>
                  <a:gd name="textAreaRight" fmla="*/ 68400 w 68040"/>
                  <a:gd name="textAreaTop" fmla="*/ 63360 h 1523880"/>
                  <a:gd name="textAreaBottom" fmla="*/ 146052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065320" y="1600200"/>
                <a:ext cx="67680" cy="1523880"/>
              </a:xfrm>
              <a:custGeom>
                <a:avLst/>
                <a:gdLst>
                  <a:gd name="textAreaLeft" fmla="*/ 19800 w 67680"/>
                  <a:gd name="textAreaRight" fmla="*/ 68040 w 67680"/>
                  <a:gd name="textAreaTop" fmla="*/ 63360 h 1523880"/>
                  <a:gd name="textAreaBottom" fmla="*/ 146052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0640" y="1600200"/>
                <a:ext cx="0" cy="134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24760" y="1717560"/>
                <a:ext cx="0" cy="14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28880" y="1600200"/>
                <a:ext cx="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2209680" y="1523880"/>
            <a:ext cx="1828080" cy="1676160"/>
            <a:chOff x="2209680" y="1523880"/>
            <a:chExt cx="1828080" cy="1676160"/>
          </a:xfrm>
        </p:grpSpPr>
        <p:grpSp>
          <p:nvGrpSpPr>
            <p:cNvPr id="327" name=""/>
            <p:cNvGrpSpPr/>
            <p:nvPr/>
          </p:nvGrpSpPr>
          <p:grpSpPr>
            <a:xfrm>
              <a:off x="2209680" y="2039760"/>
              <a:ext cx="961920" cy="398880"/>
              <a:chOff x="2209680" y="2039760"/>
              <a:chExt cx="961920" cy="398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209680" y="2361240"/>
                <a:ext cx="96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84280" y="2039760"/>
                <a:ext cx="6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05160" y="1523880"/>
              <a:ext cx="732600" cy="1676160"/>
              <a:chOff x="3305160" y="1523880"/>
              <a:chExt cx="732600" cy="1676160"/>
            </a:xfrm>
          </p:grpSpPr>
          <p:sp>
            <p:nvSpPr>
              <p:cNvPr id="331" name=""/>
              <p:cNvSpPr/>
              <p:nvPr/>
            </p:nvSpPr>
            <p:spPr>
              <a:xfrm>
                <a:off x="3305160" y="1523880"/>
                <a:ext cx="66240" cy="1676160"/>
              </a:xfrm>
              <a:custGeom>
                <a:avLst/>
                <a:gdLst>
                  <a:gd name="textAreaLeft" fmla="*/ 19440 w 66240"/>
                  <a:gd name="textAreaRight" fmla="*/ 66600 w 66240"/>
                  <a:gd name="textAreaTop" fmla="*/ 69840 h 1676160"/>
                  <a:gd name="textAreaBottom" fmla="*/ 160632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970800" y="1523880"/>
                <a:ext cx="66600" cy="1676160"/>
              </a:xfrm>
              <a:custGeom>
                <a:avLst/>
                <a:gdLst>
                  <a:gd name="textAreaLeft" fmla="*/ 19080 w 66600"/>
                  <a:gd name="textAreaRight" fmla="*/ 66600 w 66600"/>
                  <a:gd name="textAreaTop" fmla="*/ 69840 h 1676160"/>
                  <a:gd name="textAreaBottom" fmla="*/ 160632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3371400" y="1588320"/>
                <a:ext cx="599760" cy="51552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343400" y="1523880"/>
            <a:ext cx="1912680" cy="1981080"/>
            <a:chOff x="4343400" y="1523880"/>
            <a:chExt cx="1912680" cy="1981080"/>
          </a:xfrm>
        </p:grpSpPr>
        <p:sp>
          <p:nvSpPr>
            <p:cNvPr id="335" name=""/>
            <p:cNvSpPr/>
            <p:nvPr/>
          </p:nvSpPr>
          <p:spPr>
            <a:xfrm flipV="1">
              <a:off x="4343400" y="2361960"/>
              <a:ext cx="83808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46280" y="1981080"/>
              <a:ext cx="81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,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240160" y="1523880"/>
              <a:ext cx="1015920" cy="1981080"/>
              <a:chOff x="5240160" y="1523880"/>
              <a:chExt cx="1015920" cy="198108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0160" y="1523880"/>
                <a:ext cx="66240" cy="1981080"/>
              </a:xfrm>
              <a:custGeom>
                <a:avLst/>
                <a:gdLst>
                  <a:gd name="textAreaLeft" fmla="*/ 19440 w 66240"/>
                  <a:gd name="textAreaRight" fmla="*/ 66600 w 66240"/>
                  <a:gd name="textAreaTop" fmla="*/ 82440 h 1981080"/>
                  <a:gd name="textAreaBottom" fmla="*/ 189864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5307840" y="1589040"/>
                <a:ext cx="596880" cy="52812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85000" y="1919880"/>
                <a:ext cx="1440" cy="15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20720" y="1788120"/>
                <a:ext cx="1080" cy="171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188400" y="1523880"/>
                <a:ext cx="67680" cy="1981080"/>
              </a:xfrm>
              <a:custGeom>
                <a:avLst/>
                <a:gdLst>
                  <a:gd name="textAreaLeft" fmla="*/ 19800 w 67680"/>
                  <a:gd name="textAreaRight" fmla="*/ 68040 w 67680"/>
                  <a:gd name="textAreaTop" fmla="*/ 82440 h 1981080"/>
                  <a:gd name="textAreaBottom" fmla="*/ 189864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6629400" y="1523880"/>
            <a:ext cx="1980720" cy="1904760"/>
            <a:chOff x="6629400" y="1523880"/>
            <a:chExt cx="1980720" cy="1904760"/>
          </a:xfrm>
        </p:grpSpPr>
        <p:grpSp>
          <p:nvGrpSpPr>
            <p:cNvPr id="344" name=""/>
            <p:cNvGrpSpPr/>
            <p:nvPr/>
          </p:nvGrpSpPr>
          <p:grpSpPr>
            <a:xfrm>
              <a:off x="7526160" y="1523880"/>
              <a:ext cx="1083960" cy="1904760"/>
              <a:chOff x="7526160" y="1523880"/>
              <a:chExt cx="1083960" cy="19047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8542440" y="1523880"/>
                <a:ext cx="67680" cy="1904760"/>
              </a:xfrm>
              <a:custGeom>
                <a:avLst/>
                <a:gdLst>
                  <a:gd name="textAreaLeft" fmla="*/ 19800 w 67680"/>
                  <a:gd name="textAreaRight" fmla="*/ 68040 w 67680"/>
                  <a:gd name="textAreaTop" fmla="*/ 79200 h 1904760"/>
                  <a:gd name="textAreaBottom" fmla="*/ 182556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26160" y="1523880"/>
                <a:ext cx="67680" cy="1904760"/>
              </a:xfrm>
              <a:custGeom>
                <a:avLst/>
                <a:gdLst>
                  <a:gd name="textAreaLeft" fmla="*/ 19800 w 67680"/>
                  <a:gd name="textAreaRight" fmla="*/ 68040 w 67680"/>
                  <a:gd name="textAreaTop" fmla="*/ 79200 h 1904760"/>
                  <a:gd name="textAreaBottom" fmla="*/ 182556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7593840" y="1587240"/>
                <a:ext cx="880560" cy="7617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629400" y="1968120"/>
              <a:ext cx="761400" cy="398880"/>
              <a:chOff x="6629400" y="1968120"/>
              <a:chExt cx="761400" cy="398880"/>
            </a:xfrm>
          </p:grpSpPr>
          <p:sp>
            <p:nvSpPr>
              <p:cNvPr id="349" name=""/>
              <p:cNvSpPr/>
              <p:nvPr/>
            </p:nvSpPr>
            <p:spPr>
              <a:xfrm>
                <a:off x="6629400" y="2349000"/>
                <a:ext cx="76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29400" y="1968120"/>
                <a:ext cx="59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1830600" y="3689280"/>
            <a:ext cx="61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il finding the first rank-deficient Sylvester sub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83080" y="4194000"/>
            <a:ext cx="64965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termine the GCD facto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, v, 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10560" y="4876920"/>
            <a:ext cx="4870800" cy="1221480"/>
            <a:chOff x="1510560" y="4876920"/>
            <a:chExt cx="4870800" cy="1221480"/>
          </a:xfrm>
        </p:grpSpPr>
        <p:sp>
          <p:nvSpPr>
            <p:cNvPr id="354" name=""/>
            <p:cNvSpPr/>
            <p:nvPr/>
          </p:nvSpPr>
          <p:spPr>
            <a:xfrm>
              <a:off x="1510560" y="4908600"/>
              <a:ext cx="23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y formula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4130640" y="4876920"/>
                  <a:ext cx="182880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w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"/>
            <p:cNvSpPr/>
            <p:nvPr/>
          </p:nvSpPr>
          <p:spPr>
            <a:xfrm>
              <a:off x="1625760" y="5638680"/>
              <a:ext cx="47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nd the Gauss-Newton it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97920" cy="6819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733920" y="3124080"/>
            <a:ext cx="1447560" cy="2971800"/>
            <a:chOff x="3733920" y="3124080"/>
            <a:chExt cx="1447560" cy="2971800"/>
          </a:xfrm>
        </p:grpSpPr>
        <p:sp>
          <p:nvSpPr>
            <p:cNvPr id="57" name=""/>
            <p:cNvSpPr/>
            <p:nvPr/>
          </p:nvSpPr>
          <p:spPr>
            <a:xfrm>
              <a:off x="3733920" y="3124080"/>
              <a:ext cx="144756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33920" y="5638680"/>
              <a:ext cx="144756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6880" y="380880"/>
            <a:ext cx="1752840" cy="609840"/>
          </a:xfrm>
          <a:prstGeom prst="flowChartAlternateProcess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41760" y="45720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: k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905120" y="990720"/>
            <a:ext cx="3200400" cy="1828800"/>
            <a:chOff x="1905120" y="990720"/>
            <a:chExt cx="3200400" cy="1828800"/>
          </a:xfrm>
        </p:grpSpPr>
        <p:sp>
          <p:nvSpPr>
            <p:cNvPr id="361" name=""/>
            <p:cNvSpPr/>
            <p:nvPr/>
          </p:nvSpPr>
          <p:spPr>
            <a:xfrm>
              <a:off x="1905120" y="1828800"/>
              <a:ext cx="3200400" cy="990720"/>
            </a:xfrm>
            <a:prstGeom prst="flowChartDecision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78240" y="2057400"/>
              <a:ext cx="213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GCD of degree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sibl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05320" y="9907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38640" y="1371600"/>
            <a:ext cx="2865960" cy="1313280"/>
            <a:chOff x="638640" y="1371600"/>
            <a:chExt cx="2865960" cy="1313280"/>
          </a:xfrm>
        </p:grpSpPr>
        <p:sp>
          <p:nvSpPr>
            <p:cNvPr id="365" name=""/>
            <p:cNvSpPr/>
            <p:nvPr/>
          </p:nvSpPr>
          <p:spPr>
            <a:xfrm>
              <a:off x="1372680" y="2286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67400" y="137160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k := k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7" name=""/>
            <p:cNvCxnSpPr/>
            <p:nvPr/>
          </p:nvCxnSpPr>
          <p:spPr>
            <a:xfrm flipH="1" rot="10800000">
              <a:off x="1904040" y="1675800"/>
              <a:ext cx="1600920" cy="648360"/>
            </a:xfrm>
            <a:prstGeom prst="bentConnector3">
              <a:avLst>
                <a:gd name="adj1" fmla="val -7905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8" name=""/>
          <p:cNvGrpSpPr/>
          <p:nvPr/>
        </p:nvGrpSpPr>
        <p:grpSpPr>
          <a:xfrm>
            <a:off x="4495680" y="3429000"/>
            <a:ext cx="3505320" cy="762120"/>
            <a:chOff x="4495680" y="3429000"/>
            <a:chExt cx="3505320" cy="762120"/>
          </a:xfrm>
        </p:grpSpPr>
        <p:sp>
          <p:nvSpPr>
            <p:cNvPr id="369" name=""/>
            <p:cNvSpPr/>
            <p:nvPr/>
          </p:nvSpPr>
          <p:spPr>
            <a:xfrm>
              <a:off x="5410080" y="3429000"/>
              <a:ext cx="2590920" cy="762120"/>
            </a:xfrm>
            <a:prstGeom prst="flowChartDecision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22440" y="358128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ccessfu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95680" y="38098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04960" y="1143000"/>
            <a:ext cx="3589560" cy="2286000"/>
            <a:chOff x="3504960" y="1143000"/>
            <a:chExt cx="3589560" cy="2286000"/>
          </a:xfrm>
        </p:grpSpPr>
        <p:cxnSp>
          <p:nvCxnSpPr>
            <p:cNvPr id="373" name=""/>
            <p:cNvCxnSpPr/>
            <p:nvPr/>
          </p:nvCxnSpPr>
          <p:spPr>
            <a:xfrm flipV="1" rot="16200000">
              <a:off x="4000320" y="723240"/>
              <a:ext cx="2210400" cy="320112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6630480" y="2409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7640" y="114300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k := k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514600" y="2666880"/>
            <a:ext cx="1981080" cy="1447920"/>
            <a:chOff x="2514600" y="2666880"/>
            <a:chExt cx="1981080" cy="1447920"/>
          </a:xfrm>
        </p:grpSpPr>
        <p:sp>
          <p:nvSpPr>
            <p:cNvPr id="377" name=""/>
            <p:cNvSpPr/>
            <p:nvPr/>
          </p:nvSpPr>
          <p:spPr>
            <a:xfrm>
              <a:off x="2514600" y="3429000"/>
              <a:ext cx="1981080" cy="685800"/>
            </a:xfrm>
            <a:prstGeom prst="flowChartAlternateProcess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20960" y="34290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ine wi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-N It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266688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probab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715000" y="4191120"/>
            <a:ext cx="1981080" cy="1752480"/>
            <a:chOff x="5715000" y="4191120"/>
            <a:chExt cx="1981080" cy="1752480"/>
          </a:xfrm>
        </p:grpSpPr>
        <p:sp>
          <p:nvSpPr>
            <p:cNvPr id="382" name=""/>
            <p:cNvSpPr/>
            <p:nvPr/>
          </p:nvSpPr>
          <p:spPr>
            <a:xfrm>
              <a:off x="6020280" y="419112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05720" y="41911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15000" y="5257800"/>
              <a:ext cx="1981080" cy="685800"/>
            </a:xfrm>
            <a:prstGeom prst="flowChartAlternateProcess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 G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833840" y="6400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ariate AGCD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52880" y="533520"/>
            <a:ext cx="3276720" cy="2847960"/>
            <a:chOff x="4952880" y="533520"/>
            <a:chExt cx="3276720" cy="2847960"/>
          </a:xfrm>
        </p:grpSpPr>
        <p:grpSp>
          <p:nvGrpSpPr>
            <p:cNvPr id="387" name=""/>
            <p:cNvGrpSpPr/>
            <p:nvPr/>
          </p:nvGrpSpPr>
          <p:grpSpPr>
            <a:xfrm>
              <a:off x="4952880" y="533520"/>
              <a:ext cx="2988000" cy="2847960"/>
              <a:chOff x="4952880" y="533520"/>
              <a:chExt cx="2988000" cy="2847960"/>
            </a:xfrm>
          </p:grpSpPr>
          <p:sp>
            <p:nvSpPr>
              <p:cNvPr id="388" name=""/>
              <p:cNvSpPr/>
              <p:nvPr/>
            </p:nvSpPr>
            <p:spPr>
              <a:xfrm>
                <a:off x="6399360" y="533520"/>
                <a:ext cx="15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x-degre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952880" y="943200"/>
                <a:ext cx="2362320" cy="114300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162560" y="943200"/>
                <a:ext cx="152280" cy="243828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400800" y="943200"/>
              <a:ext cx="1828800" cy="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27880" y="4114440"/>
            <a:ext cx="2667600" cy="1009080"/>
            <a:chOff x="227880" y="4114440"/>
            <a:chExt cx="2667600" cy="1009080"/>
          </a:xfrm>
        </p:grpSpPr>
        <p:sp>
          <p:nvSpPr>
            <p:cNvPr id="393" name=""/>
            <p:cNvSpPr/>
            <p:nvPr/>
          </p:nvSpPr>
          <p:spPr>
            <a:xfrm>
              <a:off x="1905120" y="4419720"/>
              <a:ext cx="0" cy="68580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227880" y="4114440"/>
              <a:ext cx="2667600" cy="1009080"/>
              <a:chOff x="227880" y="4114440"/>
              <a:chExt cx="2667600" cy="1009080"/>
            </a:xfrm>
          </p:grpSpPr>
          <p:sp>
            <p:nvSpPr>
              <p:cNvPr id="395" name=""/>
              <p:cNvSpPr/>
              <p:nvPr/>
            </p:nvSpPr>
            <p:spPr>
              <a:xfrm>
                <a:off x="227880" y="4419720"/>
                <a:ext cx="16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in-dist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arn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905120" y="4114440"/>
                <a:ext cx="990360" cy="68580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424240" y="988920"/>
            <a:ext cx="47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7080" y="1522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  AG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191120" y="990720"/>
            <a:ext cx="1447560" cy="1983600"/>
            <a:chOff x="4191120" y="990720"/>
            <a:chExt cx="1447560" cy="1983600"/>
          </a:xfrm>
        </p:grpSpPr>
        <p:sp>
          <p:nvSpPr>
            <p:cNvPr id="401" name=""/>
            <p:cNvSpPr/>
            <p:nvPr/>
          </p:nvSpPr>
          <p:spPr>
            <a:xfrm>
              <a:off x="4191120" y="990720"/>
              <a:ext cx="1447560" cy="83808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876920" y="1828440"/>
              <a:ext cx="0" cy="6858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21880" y="2514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G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424600" y="3581280"/>
            <a:ext cx="47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c0c0c0"/>
                </a:solidFill>
                <a:latin typeface="Arial"/>
              </a:rPr>
              <a:t>x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, z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x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, z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x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, z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x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, z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x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, z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x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, z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191120" y="2971800"/>
            <a:ext cx="1447560" cy="1447920"/>
            <a:chOff x="4191120" y="2971800"/>
            <a:chExt cx="1447560" cy="1447920"/>
          </a:xfrm>
        </p:grpSpPr>
        <p:sp>
          <p:nvSpPr>
            <p:cNvPr id="406" name=""/>
            <p:cNvSpPr/>
            <p:nvPr/>
          </p:nvSpPr>
          <p:spPr>
            <a:xfrm>
              <a:off x="4191120" y="3581280"/>
              <a:ext cx="1447560" cy="8384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2971800"/>
              <a:ext cx="0" cy="60948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872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9784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819520" y="3657600"/>
            <a:ext cx="4114440" cy="1794960"/>
            <a:chOff x="2819520" y="3657600"/>
            <a:chExt cx="4114440" cy="1794960"/>
          </a:xfrm>
        </p:grpSpPr>
        <p:grpSp>
          <p:nvGrpSpPr>
            <p:cNvPr id="411" name=""/>
            <p:cNvGrpSpPr/>
            <p:nvPr/>
          </p:nvGrpSpPr>
          <p:grpSpPr>
            <a:xfrm>
              <a:off x="2819520" y="3657600"/>
              <a:ext cx="4114440" cy="1371240"/>
              <a:chOff x="2819520" y="3657600"/>
              <a:chExt cx="4114440" cy="13712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819520" y="3657600"/>
                <a:ext cx="304560" cy="1371240"/>
                <a:chOff x="2819520" y="3657600"/>
                <a:chExt cx="304560" cy="137124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2971800" y="4419360"/>
                  <a:ext cx="0" cy="609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19520" y="3657600"/>
                  <a:ext cx="304560" cy="762120"/>
                </a:xfrm>
                <a:prstGeom prst="rect">
                  <a:avLst/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429000" y="3657600"/>
                <a:ext cx="304560" cy="1371240"/>
                <a:chOff x="3429000" y="3657600"/>
                <a:chExt cx="304560" cy="1371240"/>
              </a:xfrm>
            </p:grpSpPr>
            <p:sp>
              <p:nvSpPr>
                <p:cNvPr id="416" name=""/>
                <p:cNvSpPr/>
                <p:nvPr/>
              </p:nvSpPr>
              <p:spPr>
                <a:xfrm flipV="1">
                  <a:off x="3581280" y="4419360"/>
                  <a:ext cx="0" cy="609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29000" y="3657600"/>
                  <a:ext cx="304560" cy="762120"/>
                </a:xfrm>
                <a:prstGeom prst="rect">
                  <a:avLst/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495680" y="3657600"/>
                <a:ext cx="304560" cy="1371240"/>
                <a:chOff x="4495680" y="3657600"/>
                <a:chExt cx="304560" cy="137124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4647960" y="4419360"/>
                  <a:ext cx="0" cy="609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495680" y="3657600"/>
                  <a:ext cx="304560" cy="762120"/>
                </a:xfrm>
                <a:prstGeom prst="rect">
                  <a:avLst/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105520" y="3657600"/>
                <a:ext cx="304560" cy="1371240"/>
                <a:chOff x="5105520" y="3657600"/>
                <a:chExt cx="304560" cy="1371240"/>
              </a:xfrm>
            </p:grpSpPr>
            <p:sp>
              <p:nvSpPr>
                <p:cNvPr id="422" name=""/>
                <p:cNvSpPr/>
                <p:nvPr/>
              </p:nvSpPr>
              <p:spPr>
                <a:xfrm flipV="1">
                  <a:off x="5257800" y="4419360"/>
                  <a:ext cx="0" cy="609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105520" y="3657600"/>
                  <a:ext cx="304560" cy="762120"/>
                </a:xfrm>
                <a:prstGeom prst="rect">
                  <a:avLst/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019920" y="3657600"/>
                <a:ext cx="304560" cy="1371240"/>
                <a:chOff x="6019920" y="3657600"/>
                <a:chExt cx="304560" cy="1371240"/>
              </a:xfrm>
            </p:grpSpPr>
            <p:sp>
              <p:nvSpPr>
                <p:cNvPr id="425" name=""/>
                <p:cNvSpPr/>
                <p:nvPr/>
              </p:nvSpPr>
              <p:spPr>
                <a:xfrm flipV="1">
                  <a:off x="6172200" y="4419360"/>
                  <a:ext cx="0" cy="609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019920" y="3657600"/>
                  <a:ext cx="304560" cy="762120"/>
                </a:xfrm>
                <a:prstGeom prst="rect">
                  <a:avLst/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629400" y="3657600"/>
                <a:ext cx="304560" cy="1371240"/>
                <a:chOff x="6629400" y="3657600"/>
                <a:chExt cx="304560" cy="1371240"/>
              </a:xfrm>
            </p:grpSpPr>
            <p:sp>
              <p:nvSpPr>
                <p:cNvPr id="428" name=""/>
                <p:cNvSpPr/>
                <p:nvPr/>
              </p:nvSpPr>
              <p:spPr>
                <a:xfrm flipV="1">
                  <a:off x="6781680" y="4419360"/>
                  <a:ext cx="0" cy="609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629400" y="3657600"/>
                  <a:ext cx="304560" cy="762120"/>
                </a:xfrm>
                <a:prstGeom prst="rect">
                  <a:avLst/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2971800" y="50292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5000" y="499284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domly fix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79640" y="5867280"/>
            <a:ext cx="91767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With probability 1, a multivariate AGCD is a  univariate AGC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in  every variable, if other variables are randomly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62240" y="457200"/>
            <a:ext cx="55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ariate AGCD algorithm lead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774440" y="1143000"/>
            <a:ext cx="2435400" cy="1424520"/>
            <a:chOff x="1774440" y="1143000"/>
            <a:chExt cx="2435400" cy="1424520"/>
          </a:xfrm>
        </p:grpSpPr>
        <p:sp>
          <p:nvSpPr>
            <p:cNvPr id="436" name=""/>
            <p:cNvSpPr/>
            <p:nvPr/>
          </p:nvSpPr>
          <p:spPr>
            <a:xfrm>
              <a:off x="1774440" y="1143000"/>
              <a:ext cx="243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, 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c0c0c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, z</a:t>
              </a:r>
              <a:r>
                <a:rPr b="0" i="1" lang="en-US" sz="2400" spc="-1" strike="noStrike" baseline="-25000">
                  <a:solidFill>
                    <a:srgbClr val="c0c0c0"/>
                  </a:solidFill>
                  <a:latin typeface="Times New Roman"/>
                </a:rPr>
                <a:t>0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74440" y="1600200"/>
              <a:ext cx="243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c0c0c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, z</a:t>
              </a:r>
              <a:r>
                <a:rPr b="0" i="1" lang="en-US" sz="2400" spc="-1" strike="noStrike" baseline="-25000">
                  <a:solidFill>
                    <a:srgbClr val="c0c0c0"/>
                  </a:solidFill>
                  <a:latin typeface="Times New Roman"/>
                </a:rPr>
                <a:t>0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75160" y="2057400"/>
              <a:ext cx="241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c0c0c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c0c0c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c0c0c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00600" y="15238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,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AG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,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13320" y="1143000"/>
            <a:ext cx="4420440" cy="2669400"/>
            <a:chOff x="913320" y="1143000"/>
            <a:chExt cx="4420440" cy="2669400"/>
          </a:xfrm>
        </p:grpSpPr>
        <p:grpSp>
          <p:nvGrpSpPr>
            <p:cNvPr id="441" name=""/>
            <p:cNvGrpSpPr/>
            <p:nvPr/>
          </p:nvGrpSpPr>
          <p:grpSpPr>
            <a:xfrm>
              <a:off x="1676520" y="1143000"/>
              <a:ext cx="2590560" cy="2133720"/>
              <a:chOff x="1676520" y="1143000"/>
              <a:chExt cx="2590560" cy="2133720"/>
            </a:xfrm>
          </p:grpSpPr>
          <p:sp>
            <p:nvSpPr>
              <p:cNvPr id="442" name=""/>
              <p:cNvSpPr/>
              <p:nvPr/>
            </p:nvSpPr>
            <p:spPr>
              <a:xfrm>
                <a:off x="1676520" y="1143000"/>
                <a:ext cx="2590560" cy="1447920"/>
              </a:xfrm>
              <a:prstGeom prst="rect">
                <a:avLst/>
              </a:pr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62320" y="2666880"/>
                <a:ext cx="1143000" cy="6098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913320" y="3352680"/>
              <a:ext cx="442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egree structur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,y,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060280" y="3886200"/>
            <a:ext cx="5464440" cy="1147680"/>
            <a:chOff x="2060280" y="3886200"/>
            <a:chExt cx="5464440" cy="1147680"/>
          </a:xfrm>
        </p:grpSpPr>
        <p:sp>
          <p:nvSpPr>
            <p:cNvPr id="446" name=""/>
            <p:cNvSpPr/>
            <p:nvPr/>
          </p:nvSpPr>
          <p:spPr>
            <a:xfrm>
              <a:off x="2362320" y="3886200"/>
              <a:ext cx="11430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60280" y="4572000"/>
              <a:ext cx="29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lvester-like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089680" y="4511520"/>
                  <a:ext cx="243504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391520" y="4191120"/>
                <a:ext cx="1293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145080" y="5334120"/>
            <a:ext cx="651744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 is rank-deficient by 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447560" y="6019920"/>
            <a:ext cx="5393160" cy="688320"/>
            <a:chOff x="1447560" y="6019920"/>
            <a:chExt cx="5393160" cy="688320"/>
          </a:xfrm>
        </p:grpSpPr>
        <p:sp>
          <p:nvSpPr>
            <p:cNvPr id="452" name=""/>
            <p:cNvSpPr/>
            <p:nvPr/>
          </p:nvSpPr>
          <p:spPr>
            <a:xfrm rot="5400000">
              <a:off x="1471320" y="5996160"/>
              <a:ext cx="593640" cy="641160"/>
            </a:xfrm>
            <a:custGeom>
              <a:avLst/>
              <a:gdLst>
                <a:gd name="textAreaLeft" fmla="*/ 198000 w 593640"/>
                <a:gd name="textAreaRight" fmla="*/ 508680 w 593640"/>
                <a:gd name="textAreaTop" fmla="*/ 369360 h 641160"/>
                <a:gd name="textAreaBottom" fmla="*/ 549360 h 64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90680" y="6248520"/>
              <a:ext cx="455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re uniquely determi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934320" y="4191120"/>
            <a:ext cx="990360" cy="2286000"/>
            <a:chOff x="6934320" y="4191120"/>
            <a:chExt cx="990360" cy="2286000"/>
          </a:xfrm>
        </p:grpSpPr>
        <p:grpSp>
          <p:nvGrpSpPr>
            <p:cNvPr id="455" name=""/>
            <p:cNvGrpSpPr/>
            <p:nvPr/>
          </p:nvGrpSpPr>
          <p:grpSpPr>
            <a:xfrm>
              <a:off x="6934320" y="5257440"/>
              <a:ext cx="838080" cy="1219680"/>
              <a:chOff x="6934320" y="5257440"/>
              <a:chExt cx="838080" cy="1219680"/>
            </a:xfrm>
          </p:grpSpPr>
          <p:sp>
            <p:nvSpPr>
              <p:cNvPr id="456" name=""/>
              <p:cNvSpPr/>
              <p:nvPr/>
            </p:nvSpPr>
            <p:spPr>
              <a:xfrm>
                <a:off x="6934320" y="6477120"/>
                <a:ext cx="83808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7772400" y="5257440"/>
                <a:ext cx="0" cy="12193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7620120" y="4191120"/>
              <a:ext cx="304560" cy="10666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52280" y="15228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finding co-factor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914400" y="1143000"/>
                <a:ext cx="21668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m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≈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63920" y="2209680"/>
            <a:ext cx="4217760" cy="459720"/>
            <a:chOff x="763920" y="2209680"/>
            <a:chExt cx="4217760" cy="459720"/>
          </a:xfrm>
        </p:grpSpPr>
        <p:sp>
          <p:nvSpPr>
            <p:cNvPr id="463" name=""/>
            <p:cNvSpPr/>
            <p:nvPr/>
          </p:nvSpPr>
          <p:spPr>
            <a:xfrm>
              <a:off x="763920" y="220968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obta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2590920" y="2209680"/>
                  <a:ext cx="23907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AGCD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g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5" name=""/>
          <p:cNvSpPr/>
          <p:nvPr/>
        </p:nvSpPr>
        <p:spPr>
          <a:xfrm>
            <a:off x="1893960" y="4724280"/>
            <a:ext cx="50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The G-N iteration ensures the “min-distanc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5800" y="3429000"/>
            <a:ext cx="7772400" cy="1143000"/>
            <a:chOff x="685800" y="3429000"/>
            <a:chExt cx="7772400" cy="1143000"/>
          </a:xfrm>
        </p:grpSpPr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685800" y="3429000"/>
                  <a:ext cx="777240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8" name=""/>
                <p:cNvSpPr txBox="1"/>
                <p:nvPr/>
              </p:nvSpPr>
              <p:spPr>
                <a:xfrm>
                  <a:off x="5159880" y="4260240"/>
                  <a:ext cx="2237040" cy="26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9" name=""/>
          <p:cNvGrpSpPr/>
          <p:nvPr/>
        </p:nvGrpSpPr>
        <p:grpSpPr>
          <a:xfrm>
            <a:off x="1904760" y="533520"/>
            <a:ext cx="2362320" cy="685800"/>
            <a:chOff x="1904760" y="533520"/>
            <a:chExt cx="2362320" cy="685800"/>
          </a:xfrm>
        </p:grpSpPr>
        <p:sp>
          <p:nvSpPr>
            <p:cNvPr id="470" name=""/>
            <p:cNvSpPr/>
            <p:nvPr/>
          </p:nvSpPr>
          <p:spPr>
            <a:xfrm>
              <a:off x="3429000" y="533520"/>
              <a:ext cx="0" cy="22860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7080" y="533520"/>
              <a:ext cx="0" cy="22860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904760" y="762120"/>
              <a:ext cx="2361960" cy="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762120"/>
              <a:ext cx="0" cy="45720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505320" y="1066680"/>
            <a:ext cx="3809520" cy="1123920"/>
            <a:chOff x="3505320" y="1066680"/>
            <a:chExt cx="3809520" cy="1123920"/>
          </a:xfrm>
        </p:grpSpPr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4800600" y="1066680"/>
                  <a:ext cx="251424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≈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6" name=""/>
            <p:cNvSpPr/>
            <p:nvPr/>
          </p:nvSpPr>
          <p:spPr>
            <a:xfrm>
              <a:off x="3505320" y="1371600"/>
              <a:ext cx="975960" cy="485640"/>
            </a:xfrm>
            <a:custGeom>
              <a:avLst/>
              <a:gdLst>
                <a:gd name="textAreaLeft" fmla="*/ 152280 w 975960"/>
                <a:gd name="textAreaRight" fmla="*/ 854280 w 97596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900720" y="5678640"/>
            <a:ext cx="7218000" cy="1029600"/>
            <a:chOff x="900720" y="5678640"/>
            <a:chExt cx="7218000" cy="1029600"/>
          </a:xfrm>
        </p:grpSpPr>
        <p:sp>
          <p:nvSpPr>
            <p:cNvPr id="478" name=""/>
            <p:cNvSpPr/>
            <p:nvPr/>
          </p:nvSpPr>
          <p:spPr>
            <a:xfrm>
              <a:off x="900720" y="567864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Resul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 A robust AGCD algorith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3800" y="6248520"/>
              <a:ext cx="45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a blackbox software mvgc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921960" y="2666880"/>
            <a:ext cx="77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o-Kaltofen-May-Yang-Zhi method follows a similar approach up to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897920" y="3733920"/>
            <a:ext cx="6483960" cy="1846440"/>
            <a:chOff x="1897920" y="3733920"/>
            <a:chExt cx="6483960" cy="1846440"/>
          </a:xfrm>
        </p:grpSpPr>
        <p:sp>
          <p:nvSpPr>
            <p:cNvPr id="482" name=""/>
            <p:cNvSpPr/>
            <p:nvPr/>
          </p:nvSpPr>
          <p:spPr>
            <a:xfrm>
              <a:off x="1897920" y="518148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 And varifies the “nearness”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10080" y="3733920"/>
              <a:ext cx="2971800" cy="457200"/>
            </a:xfrm>
            <a:prstGeom prst="rect">
              <a:avLst/>
            </a:prstGeom>
            <a:noFill/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467480" y="4191120"/>
              <a:ext cx="0" cy="1218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866920" y="5410080"/>
              <a:ext cx="160020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1219320"/>
                <a:ext cx="4613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2362320"/>
                <a:ext cx="4398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334120" y="2819520"/>
                <a:ext cx="993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4421520" y="304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de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659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4267080" cy="686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4572000" y="4038480"/>
                <a:ext cx="3657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0"/>
            <a:ext cx="7989840" cy="6865920"/>
            <a:chOff x="0" y="0"/>
            <a:chExt cx="7989840" cy="6865920"/>
          </a:xfrm>
        </p:grpSpPr>
        <p:pic>
          <p:nvPicPr>
            <p:cNvPr id="49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6708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475880" y="5116680"/>
              <a:ext cx="210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ckward error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6629400" y="5105520"/>
                  <a:ext cx="136044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2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"/>
          <p:cNvGrpSpPr/>
          <p:nvPr/>
        </p:nvGrpSpPr>
        <p:grpSpPr>
          <a:xfrm>
            <a:off x="0" y="-7920"/>
            <a:ext cx="7755480" cy="6865920"/>
            <a:chOff x="0" y="-7920"/>
            <a:chExt cx="7755480" cy="6865920"/>
          </a:xfrm>
        </p:grpSpPr>
        <p:pic>
          <p:nvPicPr>
            <p:cNvPr id="499" name="" descr=""/>
            <p:cNvPicPr/>
            <p:nvPr/>
          </p:nvPicPr>
          <p:blipFill>
            <a:blip r:embed="rId4"/>
            <a:stretch/>
          </p:blipFill>
          <p:spPr>
            <a:xfrm>
              <a:off x="0" y="-7920"/>
              <a:ext cx="426708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552560" y="5954760"/>
              <a:ext cx="32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dition number = 4.15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952880" y="1523880"/>
                <a:ext cx="4038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940280" y="2133720"/>
                <a:ext cx="4065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5" name=""/>
          <p:cNvGrpSpPr/>
          <p:nvPr/>
        </p:nvGrpSpPr>
        <p:grpSpPr>
          <a:xfrm>
            <a:off x="0" y="0"/>
            <a:ext cx="8983800" cy="6865920"/>
            <a:chOff x="0" y="0"/>
            <a:chExt cx="8983800" cy="6865920"/>
          </a:xfrm>
        </p:grpSpPr>
        <p:grpSp>
          <p:nvGrpSpPr>
            <p:cNvPr id="506" name=""/>
            <p:cNvGrpSpPr/>
            <p:nvPr/>
          </p:nvGrpSpPr>
          <p:grpSpPr>
            <a:xfrm>
              <a:off x="4876920" y="3505320"/>
              <a:ext cx="4106880" cy="969840"/>
              <a:chOff x="4876920" y="3505320"/>
              <a:chExt cx="4106880" cy="969840"/>
            </a:xfrm>
          </p:grpSpPr>
          <mc:AlternateContent>
            <mc:Choice xmlns:a14="http://schemas.microsoft.com/office/drawing/2010/main" Requires="a14">
              <p:sp>
                <p:nvSpPr>
                  <p:cNvPr id="507" name=""/>
                  <p:cNvSpPr txBox="1"/>
                  <p:nvPr/>
                </p:nvSpPr>
                <p:spPr>
                  <a:xfrm>
                    <a:off x="4876920" y="3505320"/>
                    <a:ext cx="2057400" cy="46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GCD</m:t>
                        </m:r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5059440" y="4038840"/>
                    <a:ext cx="3924360" cy="43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09" name=""/>
            <p:cNvSpPr/>
            <p:nvPr/>
          </p:nvSpPr>
          <p:spPr>
            <a:xfrm>
              <a:off x="4956840" y="5943600"/>
              <a:ext cx="379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dition number = 4.15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80060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4955400" y="502920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ckward error = 0.00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08520" y="1522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roximate Squarefree Factorization (AS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147320" y="863640"/>
            <a:ext cx="640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:  polynomi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 toleranc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andom vect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58560" y="1752480"/>
            <a:ext cx="8619120" cy="3002760"/>
            <a:chOff x="358560" y="1752480"/>
            <a:chExt cx="8619120" cy="3002760"/>
          </a:xfrm>
        </p:grpSpPr>
        <p:sp>
          <p:nvSpPr>
            <p:cNvPr id="516" name=""/>
            <p:cNvSpPr/>
            <p:nvPr/>
          </p:nvSpPr>
          <p:spPr>
            <a:xfrm>
              <a:off x="358560" y="1752480"/>
              <a:ext cx="3750120" cy="30027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FF Algorithm 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 = 1, 2, 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w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AGC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-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-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eak, end 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put:   ASFF    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…v</a:t>
              </a:r>
              <a:r>
                <a:rPr b="0" i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11320" y="1752480"/>
              <a:ext cx="4266360" cy="29523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FF Algorithm I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w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AGC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,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 = 1, 2, 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w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AGC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-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w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-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-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-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eak, end 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put    ASFF   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r>
                <a:rPr b="0" i="1" lang="en-US" sz="2400" spc="-1" strike="noStrike" baseline="30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r>
                <a:rPr b="0" i="1" lang="en-US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…(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r>
                <a:rPr b="0" i="1" lang="en-US" sz="2400" spc="-1" strike="noStrike" baseline="30000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53880" y="4572000"/>
            <a:ext cx="46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988560" y="3809880"/>
            <a:ext cx="7228800" cy="2035800"/>
            <a:chOff x="988560" y="3809880"/>
            <a:chExt cx="7228800" cy="2035800"/>
          </a:xfrm>
        </p:grpSpPr>
        <p:sp>
          <p:nvSpPr>
            <p:cNvPr id="520" name=""/>
            <p:cNvSpPr/>
            <p:nvPr/>
          </p:nvSpPr>
          <p:spPr>
            <a:xfrm>
              <a:off x="988560" y="5335560"/>
              <a:ext cx="72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FF Algorithm I: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14600" y="3809880"/>
              <a:ext cx="1295280" cy="381240"/>
            </a:xfrm>
            <a:prstGeom prst="rect">
              <a:avLst/>
            </a:prstGeom>
            <a:noFill/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3124080" y="4191120"/>
              <a:ext cx="2133720" cy="1066680"/>
              <a:chOff x="3124080" y="4191120"/>
              <a:chExt cx="2133720" cy="1066680"/>
            </a:xfrm>
          </p:grpSpPr>
          <p:sp>
            <p:nvSpPr>
              <p:cNvPr id="523" name=""/>
              <p:cNvSpPr/>
              <p:nvPr/>
            </p:nvSpPr>
            <p:spPr>
              <a:xfrm>
                <a:off x="3124080" y="4191120"/>
                <a:ext cx="0" cy="38088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24080" y="4572000"/>
                <a:ext cx="2133720" cy="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57800" y="4572000"/>
                <a:ext cx="0" cy="68580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994320" y="3733920"/>
            <a:ext cx="7921080" cy="2721240"/>
            <a:chOff x="994320" y="3733920"/>
            <a:chExt cx="7921080" cy="2721240"/>
          </a:xfrm>
        </p:grpSpPr>
        <p:grpSp>
          <p:nvGrpSpPr>
            <p:cNvPr id="527" name=""/>
            <p:cNvGrpSpPr/>
            <p:nvPr/>
          </p:nvGrpSpPr>
          <p:grpSpPr>
            <a:xfrm>
              <a:off x="994320" y="3733920"/>
              <a:ext cx="7921080" cy="2721240"/>
              <a:chOff x="994320" y="3733920"/>
              <a:chExt cx="7921080" cy="2721240"/>
            </a:xfrm>
          </p:grpSpPr>
          <p:sp>
            <p:nvSpPr>
              <p:cNvPr id="528" name=""/>
              <p:cNvSpPr/>
              <p:nvPr/>
            </p:nvSpPr>
            <p:spPr>
              <a:xfrm>
                <a:off x="994320" y="5945040"/>
                <a:ext cx="609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SFF Algorithm II: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781680" y="3733920"/>
                <a:ext cx="2133720" cy="457200"/>
              </a:xfrm>
              <a:prstGeom prst="rect">
                <a:avLst/>
              </a:prstGeom>
              <a:noFill/>
              <a:ln w="1908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763120" y="4191120"/>
                <a:ext cx="0" cy="2057400"/>
              </a:xfrm>
              <a:prstGeom prst="line">
                <a:avLst/>
              </a:prstGeom>
              <a:ln w="1908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flipH="1">
              <a:off x="7543440" y="6248520"/>
              <a:ext cx="1219320" cy="0"/>
            </a:xfrm>
            <a:prstGeom prst="line">
              <a:avLst/>
            </a:prstGeom>
            <a:ln w="1908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701280" y="3733920"/>
            <a:ext cx="7320600" cy="1905480"/>
            <a:chOff x="701280" y="3733920"/>
            <a:chExt cx="7320600" cy="1905480"/>
          </a:xfrm>
        </p:grpSpPr>
        <p:sp>
          <p:nvSpPr>
            <p:cNvPr id="534" name=""/>
            <p:cNvSpPr/>
            <p:nvPr/>
          </p:nvSpPr>
          <p:spPr>
            <a:xfrm>
              <a:off x="701280" y="3733920"/>
              <a:ext cx="73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ll-posed problems in computational mathema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5880" y="4572000"/>
              <a:ext cx="691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atrix rank-revealing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overdetermined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polynomial facto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polynomial G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Jordan Canonical Form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multiple zeros and eigen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nonisolated zeros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… …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44480" y="914400"/>
            <a:ext cx="7640640" cy="2148840"/>
            <a:chOff x="744480" y="914400"/>
            <a:chExt cx="7640640" cy="2148840"/>
          </a:xfrm>
        </p:grpSpPr>
        <p:sp>
          <p:nvSpPr>
            <p:cNvPr id="537" name=""/>
            <p:cNvSpPr/>
            <p:nvPr/>
          </p:nvSpPr>
          <p:spPr>
            <a:xfrm>
              <a:off x="841320" y="914400"/>
              <a:ext cx="692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ll-posed problems are common in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4480" y="1752480"/>
              <a:ext cx="7640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mage restoration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deconvolutio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VP for stiction damped oscill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inverse heat con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ome optimal control problems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electromagnetic inverse scat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ir-sea heat fluxes esti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- the Cauchy prob. for Laplace eq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… …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79600" y="228600"/>
            <a:ext cx="71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two-stage strategy for removing ill-posed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8160" y="2209680"/>
            <a:ext cx="81525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ge I: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the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desired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structure determines a pejorative manifold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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ts the struct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4560" y="411480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ge II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ulate and solve a least squares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74640" y="990720"/>
            <a:ext cx="7718760" cy="824760"/>
            <a:chOff x="674640" y="990720"/>
            <a:chExt cx="7718760" cy="824760"/>
          </a:xfrm>
        </p:grpSpPr>
        <p:sp>
          <p:nvSpPr>
            <p:cNvPr id="544" name=""/>
            <p:cNvSpPr/>
            <p:nvPr/>
          </p:nvSpPr>
          <p:spPr>
            <a:xfrm>
              <a:off x="674640" y="990720"/>
              <a:ext cx="220140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or a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data ----&gt; solu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3886200" y="1066680"/>
                  <a:ext cx="190512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"/>
            <p:cNvSpPr/>
            <p:nvPr/>
          </p:nvSpPr>
          <p:spPr>
            <a:xfrm>
              <a:off x="6481080" y="990720"/>
              <a:ext cx="1912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dat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017080" y="4572000"/>
            <a:ext cx="4408920" cy="814320"/>
            <a:chOff x="2017080" y="4572000"/>
            <a:chExt cx="4408920" cy="81432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886200" y="4572000"/>
                  <a:ext cx="2539800" cy="69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"/>
            <p:cNvSpPr/>
            <p:nvPr/>
          </p:nvSpPr>
          <p:spPr>
            <a:xfrm>
              <a:off x="2017080" y="47491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nimi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2361960" y="5107320"/>
                  <a:ext cx="76212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∈</m:t>
                      </m:r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23880" y="1843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two-stage approach lead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42400" y="1523880"/>
            <a:ext cx="60829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nk-revealing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rank-revealing method and its applications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 Y. Li and Z. Z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2400" y="3200400"/>
            <a:ext cx="70005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ariate GCD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pproximate GCD of inexact polynomials. Part I: a univariate algorith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. Z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43840" y="4114800"/>
            <a:ext cx="7224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variate GCD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pproximate GCD of inexact polynomials. Part II: a multivariate algorith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. Zeng and B. H. Day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70040" y="2286000"/>
            <a:ext cx="54874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oot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ing multiple roots of inexact polynomials,  Z. Z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410200" y="762120"/>
            <a:ext cx="42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ckbox algorithms an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51120" y="6019920"/>
            <a:ext cx="47127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rdan Canonical form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57600" y="5181480"/>
            <a:ext cx="41853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variate ASFF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458200" y="6400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54400" y="228600"/>
            <a:ext cx="6531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ing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exact G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n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ill-pose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9880" y="2819520"/>
                <a:ext cx="256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1662120" y="1182600"/>
            <a:ext cx="3063960" cy="473040"/>
            <a:chOff x="1662120" y="1182600"/>
            <a:chExt cx="3063960" cy="4730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662120" y="1182600"/>
                  <a:ext cx="12477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+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3503520" y="1219320"/>
                  <a:ext cx="12225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" name=""/>
          <p:cNvSpPr/>
          <p:nvPr/>
        </p:nvSpPr>
        <p:spPr>
          <a:xfrm>
            <a:off x="303480" y="373392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Computing 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e approximate G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or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AGC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43200" y="5029200"/>
                <a:ext cx="4211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CD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09880" y="2286000"/>
                <a:ext cx="2632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8458200" y="6400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666880" y="3124080"/>
            <a:ext cx="3657600" cy="3353040"/>
            <a:chOff x="2666880" y="3124080"/>
            <a:chExt cx="3657600" cy="3353040"/>
          </a:xfrm>
        </p:grpSpPr>
        <p:sp>
          <p:nvSpPr>
            <p:cNvPr id="71" name=""/>
            <p:cNvSpPr/>
            <p:nvPr/>
          </p:nvSpPr>
          <p:spPr>
            <a:xfrm>
              <a:off x="3657600" y="3124080"/>
              <a:ext cx="160020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6019920"/>
              <a:ext cx="365760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3760" y="19080"/>
            <a:ext cx="9097920" cy="6819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19320" y="2209680"/>
            <a:ext cx="3657600" cy="1371600"/>
            <a:chOff x="1219320" y="2209680"/>
            <a:chExt cx="3657600" cy="1371600"/>
          </a:xfrm>
        </p:grpSpPr>
        <p:sp>
          <p:nvSpPr>
            <p:cNvPr id="78" name=""/>
            <p:cNvSpPr/>
            <p:nvPr/>
          </p:nvSpPr>
          <p:spPr>
            <a:xfrm>
              <a:off x="1219320" y="2209680"/>
              <a:ext cx="3657600" cy="381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3200400"/>
              <a:ext cx="33526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5440" y="228600"/>
            <a:ext cx="6258600" cy="459720"/>
          </a:xfrm>
          <a:prstGeom prst="rect">
            <a:avLst/>
          </a:prstGeom>
          <a:solidFill>
            <a:srgbClr val="f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mage restoration (Pillai &amp; Li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81680" y="838080"/>
          <a:ext cx="198936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38080"/>
                    <a:ext cx="19893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"/>
          <p:cNvGrpSpPr/>
          <p:nvPr/>
        </p:nvGrpSpPr>
        <p:grpSpPr>
          <a:xfrm>
            <a:off x="380880" y="3276720"/>
            <a:ext cx="5181840" cy="1319040"/>
            <a:chOff x="380880" y="3276720"/>
            <a:chExt cx="5181840" cy="1319040"/>
          </a:xfrm>
        </p:grpSpPr>
        <p:grpSp>
          <p:nvGrpSpPr>
            <p:cNvPr id="84" name=""/>
            <p:cNvGrpSpPr/>
            <p:nvPr/>
          </p:nvGrpSpPr>
          <p:grpSpPr>
            <a:xfrm>
              <a:off x="380880" y="3276720"/>
              <a:ext cx="2320920" cy="1319040"/>
              <a:chOff x="380880" y="3276720"/>
              <a:chExt cx="2320920" cy="1319040"/>
            </a:xfrm>
          </p:grpSpPr>
          <p:sp>
            <p:nvSpPr>
              <p:cNvPr id="85" name=""/>
              <p:cNvSpPr/>
              <p:nvPr/>
            </p:nvSpPr>
            <p:spPr>
              <a:xfrm>
                <a:off x="1219320" y="3276720"/>
                <a:ext cx="485640" cy="380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380880" y="3657600"/>
                <a:ext cx="2320920" cy="938160"/>
                <a:chOff x="380880" y="3657600"/>
                <a:chExt cx="2320920" cy="9381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7" name=""/>
                    <p:cNvSpPr txBox="1"/>
                    <p:nvPr/>
                  </p:nvSpPr>
                  <p:spPr>
                    <a:xfrm>
                      <a:off x="380880" y="3657600"/>
                      <a:ext cx="2320920" cy="404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η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88" name=""/>
                    <p:cNvSpPr txBox="1"/>
                    <p:nvPr/>
                  </p:nvSpPr>
                  <p:spPr>
                    <a:xfrm>
                      <a:off x="914400" y="4190760"/>
                      <a:ext cx="968400" cy="40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89" name=""/>
            <p:cNvGrpSpPr/>
            <p:nvPr/>
          </p:nvGrpSpPr>
          <p:grpSpPr>
            <a:xfrm>
              <a:off x="3276720" y="3276720"/>
              <a:ext cx="2286000" cy="1319040"/>
              <a:chOff x="3276720" y="3276720"/>
              <a:chExt cx="2286000" cy="13190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3276720" y="3657600"/>
                <a:ext cx="2286000" cy="938160"/>
                <a:chOff x="3276720" y="3657600"/>
                <a:chExt cx="2286000" cy="9381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91" name=""/>
                    <p:cNvSpPr txBox="1"/>
                    <p:nvPr/>
                  </p:nvSpPr>
                  <p:spPr>
                    <a:xfrm>
                      <a:off x="3276720" y="3657600"/>
                      <a:ext cx="2286000" cy="392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μ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2" name=""/>
                    <p:cNvSpPr txBox="1"/>
                    <p:nvPr/>
                  </p:nvSpPr>
                  <p:spPr>
                    <a:xfrm>
                      <a:off x="3971880" y="4191120"/>
                      <a:ext cx="947880" cy="404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93" name=""/>
              <p:cNvSpPr/>
              <p:nvPr/>
            </p:nvSpPr>
            <p:spPr>
              <a:xfrm>
                <a:off x="4038480" y="3276720"/>
                <a:ext cx="486000" cy="380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" y="4800600"/>
                <a:ext cx="5410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165440" y="457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838080"/>
            <a:ext cx="4800600" cy="2408400"/>
            <a:chOff x="457200" y="838080"/>
            <a:chExt cx="4800600" cy="2408400"/>
          </a:xfrm>
        </p:grpSpPr>
        <p:graphicFrame>
          <p:nvGraphicFramePr>
            <p:cNvPr id="97" name=""/>
            <p:cNvGraphicFramePr/>
            <p:nvPr/>
          </p:nvGraphicFramePr>
          <p:xfrm>
            <a:off x="3276720" y="1219320"/>
            <a:ext cx="1981080" cy="201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1219320"/>
                      <a:ext cx="198108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457200" y="1219320"/>
            <a:ext cx="1996920" cy="202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1219320"/>
                      <a:ext cx="1996920" cy="202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689400" y="8380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urred 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8920" y="8380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urred 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032440" y="4038480"/>
            <a:ext cx="3890880" cy="2019240"/>
            <a:chOff x="5032440" y="4038480"/>
            <a:chExt cx="3890880" cy="2019240"/>
          </a:xfrm>
        </p:grpSpPr>
        <p:sp>
          <p:nvSpPr>
            <p:cNvPr id="104" name=""/>
            <p:cNvSpPr/>
            <p:nvPr/>
          </p:nvSpPr>
          <p:spPr>
            <a:xfrm>
              <a:off x="5867280" y="4800240"/>
              <a:ext cx="519120" cy="486000"/>
            </a:xfrm>
            <a:prstGeom prst="rightArrow">
              <a:avLst>
                <a:gd name="adj1" fmla="val 50000"/>
                <a:gd name="adj2" fmla="val 267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032440" y="4038480"/>
              <a:ext cx="3890880" cy="2019240"/>
              <a:chOff x="5032440" y="4038480"/>
              <a:chExt cx="3890880" cy="20192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6858000" y="4038480"/>
              <a:ext cx="2065320" cy="2019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58000" y="4038480"/>
                        <a:ext cx="2065320" cy="201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5032440" y="5486040"/>
                <a:ext cx="170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tored im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380880" y="2895480"/>
            <a:ext cx="10648800" cy="1143000"/>
            <a:chOff x="380880" y="2895480"/>
            <a:chExt cx="10648800" cy="1143000"/>
          </a:xfrm>
        </p:grpSpPr>
        <p:grpSp>
          <p:nvGrpSpPr>
            <p:cNvPr id="110" name=""/>
            <p:cNvGrpSpPr/>
            <p:nvPr/>
          </p:nvGrpSpPr>
          <p:grpSpPr>
            <a:xfrm>
              <a:off x="7391520" y="2895480"/>
              <a:ext cx="742680" cy="849240"/>
              <a:chOff x="7391520" y="2895480"/>
              <a:chExt cx="742680" cy="849240"/>
            </a:xfrm>
          </p:grpSpPr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7391520" y="3352680"/>
                    <a:ext cx="742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2" name=""/>
              <p:cNvSpPr/>
              <p:nvPr/>
            </p:nvSpPr>
            <p:spPr>
              <a:xfrm>
                <a:off x="7543800" y="2895480"/>
                <a:ext cx="485640" cy="380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80880" y="3657600"/>
              <a:ext cx="76212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566768">
                    <a:alpha val="0"/>
                  </a:srgbClr>
                </a:gs>
              </a:gsLst>
              <a:lin ang="54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0287000" y="2895480"/>
              <a:ext cx="742680" cy="849240"/>
              <a:chOff x="10287000" y="2895480"/>
              <a:chExt cx="742680" cy="849240"/>
            </a:xfrm>
          </p:grpSpPr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0287000" y="3352680"/>
                    <a:ext cx="74268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0439280" y="2895480"/>
                <a:ext cx="485640" cy="380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276720" y="3657600"/>
              <a:ext cx="76176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566768">
                    <a:alpha val="0"/>
                  </a:srgbClr>
                </a:gs>
              </a:gsLst>
              <a:lin ang="54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8458200" y="6400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5240" y="533520"/>
            <a:ext cx="7157520" cy="76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Approximate polynomial factoriz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ao,  Kaltofen, May, Yang,  Z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1480" y="1523880"/>
            <a:ext cx="7154280" cy="1079640"/>
            <a:chOff x="681480" y="1523880"/>
            <a:chExt cx="7154280" cy="10796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19320" y="2057400"/>
                  <a:ext cx="17524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124080" y="2057400"/>
                  <a:ext cx="47116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⋯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681480" y="1523880"/>
              <a:ext cx="616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challenge #1 in symbolic computa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Kaltofe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7480" y="2590920"/>
            <a:ext cx="6537960" cy="368280"/>
            <a:chOff x="1527480" y="2590920"/>
            <a:chExt cx="6537960" cy="368280"/>
          </a:xfrm>
        </p:grpSpPr>
        <p:sp>
          <p:nvSpPr>
            <p:cNvPr id="125" name=""/>
            <p:cNvSpPr/>
            <p:nvPr/>
          </p:nvSpPr>
          <p:spPr>
            <a:xfrm>
              <a:off x="1527480" y="259092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rreduc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96520" y="2590920"/>
              <a:ext cx="38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roximate irreducible facto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28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2240" y="3200400"/>
            <a:ext cx="753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prerequi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an approximate squarefree factorization (AS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ao-Kaltofen-May-Yang-Zhi,  Corless-Giesbrecht-Hoeij-Kotsireas-Watt, et 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9440" y="3962520"/>
            <a:ext cx="3466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A typical application of AG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840" y="4572000"/>
            <a:ext cx="71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finishing 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Calculating AGCD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ao-Kaltofen-May-Yang-Zh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82080" y="533412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o-Kaltofen-May-Yang-Zhi developed their own AGC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6400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80" y="228600"/>
            <a:ext cx="7561440" cy="76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Finding polynomial roots and multiplic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 Ze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5680" y="5410080"/>
            <a:ext cx="8597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D is the k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uting multiple roots of inexact polynomials”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. Zeng, ISSAC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4920" y="1447920"/>
                <a:ext cx="38034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50496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4114800" y="1295280"/>
            <a:ext cx="4536000" cy="3385800"/>
            <a:chOff x="4114800" y="1295280"/>
            <a:chExt cx="4536000" cy="3385800"/>
          </a:xfrm>
        </p:grpSpPr>
        <p:sp>
          <p:nvSpPr>
            <p:cNvPr id="138" name=""/>
            <p:cNvSpPr/>
            <p:nvPr/>
          </p:nvSpPr>
          <p:spPr>
            <a:xfrm>
              <a:off x="5047200" y="1295280"/>
              <a:ext cx="360360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MultRoot resul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he backward error:       6.16 x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 Narrow"/>
                </a:rPr>
                <a:t>-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omputed roots                     multiplic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000000000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 Narrow"/>
                </a:rPr>
                <a:t>0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000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 Narrow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99999999999999</a:t>
              </a:r>
              <a:r>
                <a:rPr b="0" lang="en-US" sz="1800" spc="-1" strike="noStrike">
                  <a:solidFill>
                    <a:srgbClr val="969696"/>
                  </a:solidFill>
                  <a:latin typeface="Arial Narrow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 Narro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0000000000000</a:t>
              </a:r>
              <a:r>
                <a:rPr b="0" lang="en-US" sz="1800" spc="-1" strike="noStrike">
                  <a:solidFill>
                    <a:srgbClr val="969696"/>
                  </a:solidFill>
                  <a:latin typeface="Arial Narrow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 Narro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9999999999999</a:t>
              </a:r>
              <a:r>
                <a:rPr b="0" lang="en-US" sz="1800" spc="-1" strike="noStrike">
                  <a:solidFill>
                    <a:srgbClr val="969696"/>
                  </a:solidFill>
                  <a:latin typeface="Arial Narrow"/>
                </a:rPr>
                <a:t>8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2819160"/>
              <a:ext cx="747720" cy="485640"/>
            </a:xfrm>
            <a:custGeom>
              <a:avLst/>
              <a:gdLst>
                <a:gd name="textAreaLeft" fmla="*/ 116640 w 747720"/>
                <a:gd name="textAreaRight" fmla="*/ 654480 w 7477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562360" y="48006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 TOMS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640" y="6400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3581280"/>
            <a:ext cx="7467480" cy="962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Numerical computation is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ill-pose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438280"/>
            <a:ext cx="12193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81120" y="2438280"/>
            <a:ext cx="11430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49840" y="5410080"/>
            <a:ext cx="5525280" cy="70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Ask the right question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84360" y="304920"/>
            <a:ext cx="3161520" cy="1724400"/>
            <a:chOff x="5184360" y="304920"/>
            <a:chExt cx="3161520" cy="1724400"/>
          </a:xfrm>
        </p:grpSpPr>
        <p:sp>
          <p:nvSpPr>
            <p:cNvPr id="147" name=""/>
            <p:cNvSpPr/>
            <p:nvPr/>
          </p:nvSpPr>
          <p:spPr>
            <a:xfrm>
              <a:off x="5185440" y="838080"/>
              <a:ext cx="3160440" cy="1191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ll-posed problem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infinitely sensitiv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data perturb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4360" y="30492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ev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120" y="304920"/>
            <a:ext cx="4405320" cy="1724400"/>
            <a:chOff x="6120" y="304920"/>
            <a:chExt cx="4405320" cy="1724400"/>
          </a:xfrm>
        </p:grpSpPr>
        <p:sp>
          <p:nvSpPr>
            <p:cNvPr id="150" name=""/>
            <p:cNvSpPr/>
            <p:nvPr/>
          </p:nvSpPr>
          <p:spPr>
            <a:xfrm>
              <a:off x="383040" y="838080"/>
              <a:ext cx="3518280" cy="1191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umerical algorith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eks the exact solu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a 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nearby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0" y="304920"/>
              <a:ext cx="44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lkinson’s Turing Awar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970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8458200" y="6400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/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9:47:49Z</dcterms:created>
  <dc:creator>Fac_Staff</dc:creator>
  <dc:description/>
  <dc:language>en-US</dc:language>
  <cp:lastModifiedBy>neiu</cp:lastModifiedBy>
  <dcterms:modified xsi:type="dcterms:W3CDTF">2004-07-06T07:40:57Z</dcterms:modified>
  <cp:revision>70</cp:revision>
  <dc:subject/>
  <dc:title>Slide 1</dc:title>
</cp:coreProperties>
</file>