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A3376-6699-4ADB-BE4F-903C98A6CD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adamard introduced the notion of ill-posedness in the context of P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C19-B8E2-43F6-A367-E0F22CE0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7A1-935A-4D30-930F-BB2180A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226-79A5-4EB7-A79D-04697E23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394-6894-46CF-AAAB-B8D516EF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594-FAE6-453D-AB4B-A3740BD4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C26-D918-4FAB-837A-0FDF1D28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E3A-D63D-4825-A815-69112623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DF5-115F-4E16-BD2B-B0362FA4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E01-C1B8-4F94-97C8-F84A429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013-26F6-4927-9AEA-21AFCB4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2AD-4657-4ADE-8BC7-AB457B44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940-54D5-4319-AC80-361A069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EA614-497C-41D6-A517-DEEE98FA35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7600" y="258840"/>
            <a:ext cx="9893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Monotype Corsiva"/>
              </a:rPr>
              <a:t>Removing Ill-posed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onotype Corsiva"/>
              </a:rPr>
              <a:t>in Numerical Computation ---- GCD, JCF and Multipl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52680" y="18288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onotype Corsiva"/>
              </a:rPr>
              <a:t>Zhonggang Z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78120" y="5791320"/>
            <a:ext cx="59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April 20, 2004, University of Notre D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5320" y="25416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Backward error and conditio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1447920"/>
            <a:ext cx="5347080" cy="4572000"/>
            <a:chOff x="685800" y="1447920"/>
            <a:chExt cx="5347080" cy="4572000"/>
          </a:xfrm>
        </p:grpSpPr>
        <p:sp>
          <p:nvSpPr>
            <p:cNvPr id="170" name=""/>
            <p:cNvSpPr/>
            <p:nvPr/>
          </p:nvSpPr>
          <p:spPr>
            <a:xfrm>
              <a:off x="685800" y="1447920"/>
              <a:ext cx="534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James H. Wilkinson (1919-1986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0"/>
              <a:ext cx="3355920" cy="37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3663720" y="4191120"/>
            <a:ext cx="5811840" cy="119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Numerical Compu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see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The </a:t>
            </a:r>
            <a:r>
              <a:rPr b="1" i="1" lang="en-GB" sz="2400" spc="-1" strike="noStrike" u="sng">
                <a:solidFill>
                  <a:srgbClr val="0000cc"/>
                </a:solidFill>
                <a:uFillTx/>
                <a:latin typeface="Monotype Corsiva"/>
              </a:rPr>
              <a:t>exact solution</a:t>
            </a:r>
            <a:r>
              <a:rPr b="1" i="1" lang="en-GB" sz="2400" spc="-1" strike="noStrike">
                <a:solidFill>
                  <a:srgbClr val="000000"/>
                </a:solidFill>
                <a:latin typeface="Monotype Corsiva"/>
              </a:rPr>
              <a:t> of a </a:t>
            </a:r>
            <a:r>
              <a:rPr b="1" i="1" lang="en-GB" sz="2400" spc="-1" strike="noStrike" u="sng">
                <a:solidFill>
                  <a:srgbClr val="0000cc"/>
                </a:solidFill>
                <a:uFillTx/>
                <a:latin typeface="Monotype Corsiva"/>
              </a:rPr>
              <a:t>nearby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58560" y="2165400"/>
            <a:ext cx="36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n 1970 Turing A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backward err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99400" y="640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9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391520" cy="897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666880" y="2514600"/>
            <a:ext cx="5715000" cy="3344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876240" cy="232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914400" y="4876920"/>
            <a:ext cx="4282920" cy="936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1295280" y="2590920"/>
            <a:ext cx="989280" cy="2176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68440" y="228600"/>
            <a:ext cx="51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Backward</a:t>
            </a:r>
            <a:r>
              <a:rPr b="1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 and </a:t>
            </a:r>
            <a:r>
              <a:rPr b="1" i="1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ward</a:t>
            </a:r>
            <a:r>
              <a:rPr b="1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62120" y="4876920"/>
            <a:ext cx="8658720" cy="1831320"/>
            <a:chOff x="762120" y="4876920"/>
            <a:chExt cx="8658720" cy="1831320"/>
          </a:xfrm>
        </p:grpSpPr>
        <p:sp>
          <p:nvSpPr>
            <p:cNvPr id="182" name=""/>
            <p:cNvSpPr/>
            <p:nvPr/>
          </p:nvSpPr>
          <p:spPr>
            <a:xfrm>
              <a:off x="1077480" y="6248520"/>
              <a:ext cx="83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Monotype Corsiva"/>
                </a:rPr>
                <a:t>Ill-posedness is incompatible with numerical comp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120" y="4876920"/>
              <a:ext cx="7543800" cy="10666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606160" y="6477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0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57440" y="228600"/>
            <a:ext cx="38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 conditio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85320" y="1217880"/>
            <a:ext cx="71863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Forward error]  &lt;  [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ndition numb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[Backward erro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482796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GB" sz="2200" spc="-1" strike="noStrike">
                <a:solidFill>
                  <a:srgbClr val="996633"/>
                </a:solidFill>
                <a:latin typeface="Verdana"/>
              </a:rPr>
              <a:t>larg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condition numb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&lt;=&gt; The problem is </a:t>
            </a:r>
            <a:r>
              <a:rPr b="1" lang="en-GB" sz="2200" spc="-1" strike="noStrike" u="sng">
                <a:solidFill>
                  <a:srgbClr val="996633"/>
                </a:solidFill>
                <a:uFillTx/>
                <a:latin typeface="Verdana"/>
              </a:rPr>
              <a:t>sensitive</a:t>
            </a:r>
            <a:r>
              <a:rPr b="0" lang="en-GB" sz="2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r, </a:t>
            </a:r>
            <a:r>
              <a:rPr b="1" lang="en-GB" sz="2200" spc="-1" strike="noStrike" u="sng">
                <a:solidFill>
                  <a:srgbClr val="996600"/>
                </a:solidFill>
                <a:uFillTx/>
                <a:latin typeface="Verdana"/>
              </a:rPr>
              <a:t>ill-conditio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67080" y="1676520"/>
            <a:ext cx="4510080" cy="2895480"/>
            <a:chOff x="4267080" y="1676520"/>
            <a:chExt cx="4510080" cy="2895480"/>
          </a:xfrm>
        </p:grpSpPr>
        <p:sp>
          <p:nvSpPr>
            <p:cNvPr id="189" name=""/>
            <p:cNvSpPr/>
            <p:nvPr/>
          </p:nvSpPr>
          <p:spPr>
            <a:xfrm>
              <a:off x="4267080" y="1676520"/>
              <a:ext cx="4510080" cy="2895480"/>
            </a:xfrm>
            <a:custGeom>
              <a:avLst/>
              <a:gdLst>
                <a:gd name="textAreaLeft" fmla="*/ 1123560 w 4510080"/>
                <a:gd name="textAreaRight" fmla="*/ 3821040 w 4510080"/>
                <a:gd name="textAreaTop" fmla="*/ 1756440 h 2895480"/>
                <a:gd name="textAreaBottom" fmla="*/ 245340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403"/>
                  </a:moveTo>
                  <a:lnTo>
                    <a:pt x="13103" y="16403"/>
                  </a:lnTo>
                  <a:lnTo>
                    <a:pt x="13103" y="5382"/>
                  </a:lnTo>
                  <a:lnTo>
                    <a:pt x="9803" y="5382"/>
                  </a:lnTo>
                  <a:lnTo>
                    <a:pt x="15702" y="0"/>
                  </a:lnTo>
                  <a:lnTo>
                    <a:pt x="21600" y="5382"/>
                  </a:lnTo>
                  <a:lnTo>
                    <a:pt x="18300" y="5382"/>
                  </a:lnTo>
                  <a:lnTo>
                    <a:pt x="183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39080" y="3961080"/>
              <a:ext cx="36583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computational meth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048120" y="1676520"/>
            <a:ext cx="2514600" cy="1524960"/>
            <a:chOff x="3048120" y="1676520"/>
            <a:chExt cx="2514600" cy="1524960"/>
          </a:xfrm>
        </p:grpSpPr>
        <p:sp>
          <p:nvSpPr>
            <p:cNvPr id="192" name=""/>
            <p:cNvSpPr/>
            <p:nvPr/>
          </p:nvSpPr>
          <p:spPr>
            <a:xfrm>
              <a:off x="3048120" y="1676520"/>
              <a:ext cx="2514600" cy="1523880"/>
            </a:xfrm>
            <a:custGeom>
              <a:avLst/>
              <a:gdLst>
                <a:gd name="textAreaLeft" fmla="*/ 838080 w 2514600"/>
                <a:gd name="textAreaRight" fmla="*/ 2153880 w 2514600"/>
                <a:gd name="textAreaTop" fmla="*/ 877680 h 1523880"/>
                <a:gd name="textAreaBottom" fmla="*/ 130536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4440" y="2741760"/>
              <a:ext cx="19364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385280" y="5791320"/>
            <a:ext cx="547488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n ill-posed probl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GB" sz="2200" spc="-1" strike="noStrike">
                <a:solidFill>
                  <a:srgbClr val="000000"/>
                </a:solidFill>
                <a:latin typeface="Monotype Corsiva"/>
              </a:rPr>
              <a:t>==&gt;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 condition number is </a:t>
            </a:r>
            <a:r>
              <a:rPr b="1" lang="en-GB" sz="2200" spc="-1" strike="noStrike" u="sng">
                <a:solidFill>
                  <a:srgbClr val="008000"/>
                </a:solidFill>
                <a:uFillTx/>
                <a:latin typeface="Verdana"/>
              </a:rPr>
              <a:t>infin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70480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1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304920"/>
            <a:ext cx="8610480" cy="1739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the answer is highly sensitive to perturbations, you have probably asked the wrong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Maxims about numerical mathematics,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cience and life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. N. Trefethen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IAM 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4080" y="335268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h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asking a wrong ques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3360" y="541008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ha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the wrong ques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304812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:  “Custom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:   Numerical 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5105520"/>
            <a:ext cx="37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: The polynomial,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: The computing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284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2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5040" y="457200"/>
            <a:ext cx="774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question we used to as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 root-fi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Fundamental Theorem of Algeb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523880"/>
            <a:ext cx="8229600" cy="357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iven 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(x)  = x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+...+a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x + a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d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8000"/>
                </a:solidFill>
                <a:latin typeface="Times New Roman"/>
              </a:rPr>
              <a:t>z</a:t>
            </a:r>
            <a:r>
              <a:rPr b="0" i="1" lang="en-GB" sz="32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i="1" lang="en-GB" sz="3200" spc="-1" strike="noStrike">
                <a:solidFill>
                  <a:srgbClr val="008000"/>
                </a:solidFill>
                <a:latin typeface="Times New Roman"/>
              </a:rPr>
              <a:t>z</a:t>
            </a:r>
            <a:r>
              <a:rPr b="0" i="1" lang="en-GB" sz="3200" spc="-1" strike="noStrike" baseline="-25000">
                <a:solidFill>
                  <a:srgbClr val="008000"/>
                </a:solidFill>
                <a:latin typeface="Times New Roman"/>
              </a:rPr>
              <a:t>n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(x)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GB" sz="3200" spc="-1" strike="noStrike">
                <a:solidFill>
                  <a:srgbClr val="008000"/>
                </a:solidFill>
                <a:latin typeface="Times New Roman"/>
              </a:rPr>
              <a:t>z</a:t>
            </a:r>
            <a:r>
              <a:rPr b="0" i="1" lang="en-GB" sz="32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x -</a:t>
            </a:r>
            <a:r>
              <a:rPr b="0" i="1" lang="en-GB" sz="3200" spc="-1" strike="noStrike">
                <a:solidFill>
                  <a:srgbClr val="008000"/>
                </a:solidFill>
                <a:latin typeface="Times New Roman"/>
              </a:rPr>
              <a:t> z</a:t>
            </a:r>
            <a:r>
              <a:rPr b="0" i="1" lang="en-GB" sz="32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...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GB" sz="3200" spc="-1" strike="noStrike">
                <a:solidFill>
                  <a:srgbClr val="008000"/>
                </a:solidFill>
                <a:latin typeface="Times New Roman"/>
              </a:rPr>
              <a:t>z</a:t>
            </a:r>
            <a:r>
              <a:rPr b="0" i="1" lang="en-GB" sz="3200" spc="-1" strike="noStrike" baseline="-25000">
                <a:solidFill>
                  <a:srgbClr val="008000"/>
                </a:solidFill>
                <a:latin typeface="Times New Roman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1520" y="5181480"/>
            <a:ext cx="68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is problem is ill-posed when multiple root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284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3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914400" y="1828800"/>
            <a:ext cx="7070760" cy="2971800"/>
            <a:chOff x="914400" y="1828800"/>
            <a:chExt cx="7070760" cy="29718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914400" y="1828800"/>
              <a:ext cx="20908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581280" y="1908000"/>
              <a:ext cx="4403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illiam Kahan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This is a misconcep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8440" y="76212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multiple roots really sensitive to perturb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7200" y="4952880"/>
            <a:ext cx="546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ahan’s discovery in 1972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roots are sensitive to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arbitra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turb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nsensitive to </a:t>
            </a:r>
            <a:r>
              <a:rPr b="0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multiplicity preserv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turb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284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4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78080" y="22860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Kahan’s  </a:t>
            </a:r>
            <a:r>
              <a:rPr b="0" i="1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pejorative manif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1040" y="2438280"/>
            <a:ext cx="791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3200" spc="-1" strike="noStrike" baseline="-25000">
                <a:solidFill>
                  <a:srgbClr val="3333cc"/>
                </a:solidFill>
                <a:latin typeface="Times New Roman"/>
              </a:rPr>
              <a:t>n-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&lt;=&gt;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3200" spc="-1" strike="noStrike" baseline="-25000">
                <a:solidFill>
                  <a:srgbClr val="3333cc"/>
                </a:solidFill>
                <a:latin typeface="Times New Roman"/>
              </a:rPr>
              <a:t>n-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0120" y="914400"/>
            <a:ext cx="7687800" cy="1068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lynomials having certain multiplic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ucture form a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pejorative manif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62160" y="3352680"/>
            <a:ext cx="60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 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-2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GB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572000"/>
            <a:ext cx="317484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jorative manif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= -2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=  t</a:t>
            </a:r>
            <a:r>
              <a:rPr b="0" i="1" lang="en-GB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354348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47620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5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33920" y="228600"/>
            <a:ext cx="72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jorative manifolds of 3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-degre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0560" y="1294200"/>
            <a:ext cx="63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-s-2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2st+t</a:t>
            </a:r>
            <a:r>
              <a:rPr b="1" i="1" lang="en-GB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-st</a:t>
            </a:r>
            <a:r>
              <a:rPr b="1" i="1" lang="en-GB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75160" y="380880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-3s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3s</a:t>
            </a:r>
            <a:r>
              <a:rPr b="1" i="1" lang="en-GB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-s</a:t>
            </a:r>
            <a:r>
              <a:rPr b="1" i="1" lang="en-GB" sz="24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0120" y="2208240"/>
            <a:ext cx="34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jorative manifo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icity structure [1,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480" y="1980000"/>
            <a:ext cx="1451880" cy="134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=  -s-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=  2st+t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=  -st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49600" y="5027760"/>
            <a:ext cx="33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jorative manifol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icity structure 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6400" y="4803840"/>
            <a:ext cx="1121040" cy="13424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 -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 3s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 -s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6160" y="6477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6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8600" y="35100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jorative manifolds of degree 3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751040"/>
            <a:ext cx="1611720" cy="17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w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=  -s-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=  2st+t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=  -st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4875120"/>
            <a:ext cx="1459440" cy="17082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ed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 -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 3s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 -s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3920" y="4997880"/>
            <a:ext cx="2869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l for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jorative manif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800" spc="-1" strike="noStrike">
                <a:solidFill>
                  <a:srgbClr val="3333cc"/>
                </a:solidFill>
                <a:latin typeface="Times New Roman"/>
              </a:rPr>
              <a:t>u = G(z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284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7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0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2040" y="380880"/>
            <a:ext cx="86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. Kahan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serving confluence curbs ill-condition, 19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ll-condition occurs when a polynomial is </a:t>
            </a:r>
            <a:r>
              <a:rPr b="0" lang="en-GB" sz="2200" spc="-1" strike="noStrike">
                <a:solidFill>
                  <a:srgbClr val="3333cc"/>
                </a:solidFill>
                <a:latin typeface="Times New Roman"/>
              </a:rPr>
              <a:t>nea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  pejorative manifo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1960" y="2514600"/>
            <a:ext cx="738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oots are </a:t>
            </a:r>
            <a:r>
              <a:rPr b="0" lang="en-GB" sz="22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necessarily sensitive when the polynomial st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 that pejorative manif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20" y="3809880"/>
            <a:ext cx="818928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ll-condition is caused by solving 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quation on a </a:t>
            </a:r>
            <a:r>
              <a:rPr b="1" i="1" lang="en-GB" sz="3200" spc="-1" strike="noStrike" u="sng">
                <a:solidFill>
                  <a:srgbClr val="ff00ff"/>
                </a:solidFill>
                <a:uFillTx/>
                <a:latin typeface="Times New Roman"/>
              </a:rPr>
              <a:t>wrong manif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533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8440" y="5334120"/>
            <a:ext cx="104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Although Kahan did not propose a practical algorithm, this unpu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work  provides a valuable insight on ill-condition and ill-pose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2848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8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dur="indefinite" fill="hold">
                      <p:stCondLst>
                        <p:cond delay="indefinite"/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609480"/>
            <a:ext cx="7010280" cy="2333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A well-posed probl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 (Hadam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olution 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uniqu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Verdana"/>
                <a:ea typeface="Lucida Sans Unicode"/>
              </a:rPr>
              <a:t>continuit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w.r.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34040" y="3886200"/>
            <a:ext cx="7640640" cy="2148840"/>
            <a:chOff x="734040" y="3886200"/>
            <a:chExt cx="7640640" cy="2148840"/>
          </a:xfrm>
        </p:grpSpPr>
        <p:sp>
          <p:nvSpPr>
            <p:cNvPr id="55" name=""/>
            <p:cNvSpPr/>
            <p:nvPr/>
          </p:nvSpPr>
          <p:spPr>
            <a:xfrm>
              <a:off x="831600" y="3886200"/>
              <a:ext cx="692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Ill-posed problems are common in 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4040" y="4724280"/>
              <a:ext cx="7640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image restoration   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- deconvolution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IVP for stiction damped oscillator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- inverse heat con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some optimal control problems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- electromagnetic inverse scat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air-sea heat fluxes estimation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- the Cauchy prob. for Laplace eq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 … 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8600040" y="625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7160" y="230040"/>
            <a:ext cx="82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the ill-posed multiple root problem with inexac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55080" y="5638680"/>
            <a:ext cx="74685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Z. Zeng,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Computing multiple roots of inexact polynomial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o appear, Math Co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0480" y="1066680"/>
            <a:ext cx="9498600" cy="1008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key: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Monotype Corsiva"/>
              </a:rPr>
              <a:t>Remove the ill-posedness by reformulating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080" y="251460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Original probl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calculating th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8640" y="3429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Reformulated probl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finding the nea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lynomial on a proper pejorative manif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73360" y="455436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--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 constraint min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5216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19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1066680" y="3200400"/>
            <a:ext cx="4545360" cy="946800"/>
            <a:chOff x="1066680" y="3200400"/>
            <a:chExt cx="4545360" cy="946800"/>
          </a:xfrm>
        </p:grpSpPr>
        <p:sp>
          <p:nvSpPr>
            <p:cNvPr id="247" name=""/>
            <p:cNvSpPr/>
            <p:nvPr/>
          </p:nvSpPr>
          <p:spPr>
            <a:xfrm rot="20580000">
              <a:off x="1825560" y="3805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066680" y="3200400"/>
              <a:ext cx="4545360" cy="946800"/>
              <a:chOff x="1066680" y="3200400"/>
              <a:chExt cx="4545360" cy="946800"/>
            </a:xfrm>
          </p:grpSpPr>
          <p:sp>
            <p:nvSpPr>
              <p:cNvPr id="249" name=""/>
              <p:cNvSpPr/>
              <p:nvPr/>
            </p:nvSpPr>
            <p:spPr>
              <a:xfrm>
                <a:off x="1447920" y="3606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66680" y="3200400"/>
                <a:ext cx="7621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77840" y="3809880"/>
                <a:ext cx="363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rojected polynomial with computed roo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2819520" y="2209680"/>
            <a:ext cx="2319840" cy="793080"/>
            <a:chOff x="2819520" y="2209680"/>
            <a:chExt cx="2319840" cy="793080"/>
          </a:xfrm>
        </p:grpSpPr>
        <p:sp>
          <p:nvSpPr>
            <p:cNvPr id="253" name=""/>
            <p:cNvSpPr/>
            <p:nvPr/>
          </p:nvSpPr>
          <p:spPr>
            <a:xfrm rot="20580000">
              <a:off x="3122640" y="2590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819520" y="2209680"/>
              <a:ext cx="2319840" cy="793080"/>
              <a:chOff x="2819520" y="2209680"/>
              <a:chExt cx="2319840" cy="793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198240" y="2665440"/>
                <a:ext cx="194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3333cc"/>
                    </a:solidFill>
                    <a:latin typeface="Times New Roman"/>
                  </a:rPr>
                  <a:t>original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polynomial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19520" y="22096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609480" y="1420200"/>
            <a:ext cx="2516400" cy="2034360"/>
            <a:chOff x="609480" y="1420200"/>
            <a:chExt cx="2516400" cy="2034360"/>
          </a:xfrm>
        </p:grpSpPr>
        <p:sp>
          <p:nvSpPr>
            <p:cNvPr id="258" name=""/>
            <p:cNvSpPr/>
            <p:nvPr/>
          </p:nvSpPr>
          <p:spPr>
            <a:xfrm flipH="1">
              <a:off x="1065240" y="2666880"/>
              <a:ext cx="2060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09480" y="1420200"/>
              <a:ext cx="2437560" cy="2034360"/>
              <a:chOff x="609480" y="1420200"/>
              <a:chExt cx="2437560" cy="2034360"/>
            </a:xfrm>
          </p:grpSpPr>
          <p:sp>
            <p:nvSpPr>
              <p:cNvPr id="260" name=""/>
              <p:cNvSpPr/>
              <p:nvPr/>
            </p:nvSpPr>
            <p:spPr>
              <a:xfrm rot="20580000">
                <a:off x="976320" y="31068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9320000">
                <a:off x="763200" y="2134800"/>
                <a:ext cx="243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3333cc"/>
                    </a:solidFill>
                    <a:latin typeface="Times New Roman"/>
                  </a:rPr>
                  <a:t>perturbed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polynomi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609480" y="2971800"/>
                    <a:ext cx="362160" cy="482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63" name=""/>
          <p:cNvSpPr/>
          <p:nvPr/>
        </p:nvSpPr>
        <p:spPr>
          <a:xfrm>
            <a:off x="1367640" y="5562720"/>
            <a:ext cx="6758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the same multiplicity structure a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ts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accurate approximation to those of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0880" y="228600"/>
            <a:ext cx="553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llustration of the reformulated proble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30000" y="176400"/>
            <a:ext cx="11032920" cy="7997400"/>
            <a:chOff x="630000" y="176400"/>
            <a:chExt cx="11032920" cy="7997400"/>
          </a:xfrm>
        </p:grpSpPr>
        <p:grpSp>
          <p:nvGrpSpPr>
            <p:cNvPr id="266" name=""/>
            <p:cNvGrpSpPr/>
            <p:nvPr/>
          </p:nvGrpSpPr>
          <p:grpSpPr>
            <a:xfrm>
              <a:off x="630000" y="176400"/>
              <a:ext cx="11032920" cy="7997400"/>
              <a:chOff x="630000" y="176400"/>
              <a:chExt cx="11032920" cy="7997400"/>
            </a:xfrm>
          </p:grpSpPr>
          <p:sp>
            <p:nvSpPr>
              <p:cNvPr id="267" name=""/>
              <p:cNvSpPr/>
              <p:nvPr/>
            </p:nvSpPr>
            <p:spPr>
              <a:xfrm flipH="1" rot="20580000">
                <a:off x="1192680" y="1507680"/>
                <a:ext cx="9906120" cy="5334120"/>
              </a:xfrm>
              <a:custGeom>
                <a:avLst/>
                <a:gdLst>
                  <a:gd name="textAreaLeft" fmla="*/ 4952520 w 9906120"/>
                  <a:gd name="textAreaRight" fmla="*/ 9905760 w 9906120"/>
                  <a:gd name="textAreaTop" fmla="*/ 0 h 5334120"/>
                  <a:gd name="textAreaBottom" fmla="*/ 2666880 h 53341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0220000">
                <a:off x="3049200" y="1677960"/>
                <a:ext cx="22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ejorative manifo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408280" y="137160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095880" y="3352680"/>
            <a:ext cx="2743200" cy="1295640"/>
            <a:chOff x="6095880" y="3352680"/>
            <a:chExt cx="2743200" cy="1295640"/>
          </a:xfrm>
        </p:grpSpPr>
        <p:grpSp>
          <p:nvGrpSpPr>
            <p:cNvPr id="271" name=""/>
            <p:cNvGrpSpPr/>
            <p:nvPr/>
          </p:nvGrpSpPr>
          <p:grpSpPr>
            <a:xfrm>
              <a:off x="6110640" y="3505320"/>
              <a:ext cx="2592000" cy="1023840"/>
              <a:chOff x="6110640" y="3505320"/>
              <a:chExt cx="2592000" cy="1023840"/>
            </a:xfrm>
          </p:grpSpPr>
          <p:sp>
            <p:nvSpPr>
              <p:cNvPr id="272" name=""/>
              <p:cNvSpPr/>
              <p:nvPr/>
            </p:nvSpPr>
            <p:spPr>
              <a:xfrm>
                <a:off x="6110640" y="3765600"/>
                <a:ext cx="115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Verdana"/>
                  </a:rPr>
                  <a:t>Minim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3" name=""/>
                  <p:cNvSpPr txBox="1"/>
                  <p:nvPr/>
                </p:nvSpPr>
                <p:spPr>
                  <a:xfrm>
                    <a:off x="7331040" y="3505320"/>
                    <a:ext cx="1371600" cy="77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6340320" y="4191120"/>
                    <a:ext cx="69696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5" name=""/>
            <p:cNvSpPr/>
            <p:nvPr/>
          </p:nvSpPr>
          <p:spPr>
            <a:xfrm>
              <a:off x="6095880" y="3352680"/>
              <a:ext cx="2743200" cy="1295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83998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0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90720" y="838080"/>
            <a:ext cx="6997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t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 x -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... ( x -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z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Times New Roman"/>
              </a:rPr>
              <a:t>m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(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, ...,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m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n-1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(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, ...,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m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(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, ...,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m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18520" y="1981080"/>
            <a:ext cx="72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n,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 x -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... ( x -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z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&lt;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61880" y="2936880"/>
            <a:ext cx="2055600" cy="1647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(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, ...,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m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(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, ...,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m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... ...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(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, ..., z</a:t>
            </a:r>
            <a:r>
              <a:rPr b="0" i="1" lang="en-GB" sz="2000" spc="-1" strike="noStrike" baseline="-25000">
                <a:solidFill>
                  <a:srgbClr val="3333cc"/>
                </a:solidFill>
                <a:latin typeface="Times New Roman"/>
              </a:rPr>
              <a:t>m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7360" y="5181480"/>
            <a:ext cx="57661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.e. A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 determine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polynom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800" spc="-1" strike="noStrike">
                <a:solidFill>
                  <a:srgbClr val="3333cc"/>
                </a:solidFill>
                <a:latin typeface="Times New Roman"/>
              </a:rPr>
              <a:t>G(</a:t>
            </a:r>
            <a:r>
              <a:rPr b="0" i="1" lang="en-GB" sz="48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i="1" lang="en-GB" sz="4800" spc="-1" strike="noStrike">
                <a:solidFill>
                  <a:srgbClr val="3333cc"/>
                </a:solidFill>
                <a:latin typeface="Times New Roman"/>
              </a:rPr>
              <a:t>) =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52480" y="2971800"/>
            <a:ext cx="4978800" cy="1982520"/>
            <a:chOff x="1752480" y="2971800"/>
            <a:chExt cx="4978800" cy="1982520"/>
          </a:xfrm>
        </p:grpSpPr>
        <p:sp>
          <p:nvSpPr>
            <p:cNvPr id="282" name=""/>
            <p:cNvSpPr/>
            <p:nvPr/>
          </p:nvSpPr>
          <p:spPr>
            <a:xfrm>
              <a:off x="5768640" y="342756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(m&lt;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752480" y="2971800"/>
              <a:ext cx="1219320" cy="1447920"/>
              <a:chOff x="1752480" y="2971800"/>
              <a:chExt cx="1219320" cy="144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2895480" y="2971800"/>
                <a:ext cx="76320" cy="144792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37440 h 1447920"/>
                  <a:gd name="textAreaBottom" fmla="*/ 1410480 h 14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52480" y="3427560"/>
                <a:ext cx="101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(degree)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656520" y="4488120"/>
              <a:ext cx="2588760" cy="466200"/>
              <a:chOff x="3656520" y="4488120"/>
              <a:chExt cx="2588760" cy="466200"/>
            </a:xfrm>
          </p:grpSpPr>
          <p:sp>
            <p:nvSpPr>
              <p:cNvPr id="287" name=""/>
              <p:cNvSpPr/>
              <p:nvPr/>
            </p:nvSpPr>
            <p:spPr>
              <a:xfrm rot="5460000">
                <a:off x="3999600" y="4153320"/>
                <a:ext cx="154080" cy="838080"/>
              </a:xfrm>
              <a:custGeom>
                <a:avLst/>
                <a:gdLst>
                  <a:gd name="textAreaLeft" fmla="*/ 0 w 154080"/>
                  <a:gd name="textAreaRight" fmla="*/ 55440 w 154080"/>
                  <a:gd name="textAreaTop" fmla="*/ 21600 h 838080"/>
                  <a:gd name="textAreaBottom" fmla="*/ 81648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10240" y="4494600"/>
                <a:ext cx="243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m  </a:t>
                </a: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(number of distinct roots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831240" y="228600"/>
            <a:ext cx="69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 calculate roots of      p(x)= x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n-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998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1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7160" y="3809880"/>
            <a:ext cx="8569080" cy="143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cc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J(z) is of full rank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=&gt;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…,z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are distin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16960" y="270000"/>
            <a:ext cx="3762720" cy="2597040"/>
            <a:chOff x="516960" y="270000"/>
            <a:chExt cx="3762720" cy="2597040"/>
          </a:xfrm>
        </p:grpSpPr>
        <p:grpSp>
          <p:nvGrpSpPr>
            <p:cNvPr id="293" name=""/>
            <p:cNvGrpSpPr/>
            <p:nvPr/>
          </p:nvGrpSpPr>
          <p:grpSpPr>
            <a:xfrm>
              <a:off x="654120" y="1219320"/>
              <a:ext cx="3625560" cy="1647720"/>
              <a:chOff x="654120" y="1219320"/>
              <a:chExt cx="3625560" cy="1647720"/>
            </a:xfrm>
          </p:grpSpPr>
          <mc:AlternateContent>
            <mc:Choice xmlns:a14="http://schemas.microsoft.com/office/drawing/2010/main" Requires="a14">
              <p:sp>
                <p:nvSpPr>
                  <p:cNvPr id="294" name=""/>
                  <p:cNvSpPr txBox="1"/>
                  <p:nvPr/>
                </p:nvSpPr>
                <p:spPr>
                  <a:xfrm>
                    <a:off x="654120" y="1219320"/>
                    <a:ext cx="3263760" cy="16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⋯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⋯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"/>
              <p:cNvSpPr/>
              <p:nvPr/>
            </p:nvSpPr>
            <p:spPr>
              <a:xfrm>
                <a:off x="4022640" y="17175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516960" y="270000"/>
              <a:ext cx="32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 coefficient operat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181480" y="304920"/>
            <a:ext cx="2948040" cy="3117600"/>
            <a:chOff x="5181480" y="304920"/>
            <a:chExt cx="2948040" cy="311760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5181480" y="1066680"/>
                  <a:ext cx="2948040" cy="235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>
              <a:off x="5258160" y="304920"/>
              <a:ext cx="17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ts Jacobia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779400" y="5867280"/>
            <a:ext cx="762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r the decomposition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 ( x -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... ( x -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z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16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s unreduc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55216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2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fill="hold">
                      <p:stCondLst>
                        <p:cond delay="indefinite"/>
                      </p:stCondLst>
                      <p:childTnLst>
                        <p:par>
                          <p:cTn id="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69720" y="228600"/>
            <a:ext cx="71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structure-preserving conditio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8960000">
            <a:off x="-95040" y="961560"/>
            <a:ext cx="10647360" cy="11128320"/>
          </a:xfrm>
          <a:custGeom>
            <a:avLst/>
            <a:gdLst>
              <a:gd name="textAreaLeft" fmla="*/ 4366440 w 10647360"/>
              <a:gd name="textAreaRight" fmla="*/ 10633320 w 10647360"/>
              <a:gd name="textAreaTop" fmla="*/ 0 h 11128320"/>
              <a:gd name="textAreaBottom" fmla="*/ 5563800 h 11128320"/>
            </a:gdLst>
            <a:ahLst/>
            <a:rect l="textAreaLeft" t="textAreaTop" r="textAreaRight" b="textAreaBottom"/>
            <a:pathLst>
              <a:path stroke="0" w="21600" h="21600">
                <a:moveTo>
                  <a:pt x="8878" y="172"/>
                </a:moveTo>
                <a:arcTo wR="10800" hR="10800" stAng="-6014938" swAng="5761926"/>
                <a:lnTo>
                  <a:pt x="10800" y="10800"/>
                </a:lnTo>
                <a:close/>
              </a:path>
              <a:path fill="none" w="21600" h="21600">
                <a:moveTo>
                  <a:pt x="8878" y="172"/>
                </a:moveTo>
                <a:arcTo wR="10800" hR="10800" stAng="-6014938" swAng="5761926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743200" y="1447920"/>
            <a:ext cx="1358640" cy="1050840"/>
            <a:chOff x="2743200" y="1447920"/>
            <a:chExt cx="1358640" cy="1050840"/>
          </a:xfrm>
        </p:grpSpPr>
        <p:sp>
          <p:nvSpPr>
            <p:cNvPr id="305" name=""/>
            <p:cNvSpPr/>
            <p:nvPr/>
          </p:nvSpPr>
          <p:spPr>
            <a:xfrm>
              <a:off x="2743200" y="1447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860000">
              <a:off x="2822040" y="17496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u = G(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385600" y="1066680"/>
            <a:ext cx="1271520" cy="1134000"/>
            <a:chOff x="5385600" y="1066680"/>
            <a:chExt cx="1271520" cy="1134000"/>
          </a:xfrm>
        </p:grpSpPr>
        <p:sp>
          <p:nvSpPr>
            <p:cNvPr id="308" name=""/>
            <p:cNvSpPr/>
            <p:nvPr/>
          </p:nvSpPr>
          <p:spPr>
            <a:xfrm>
              <a:off x="5410080" y="1066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980000">
              <a:off x="5412600" y="1446480"/>
              <a:ext cx="121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 = G(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581280" y="2743200"/>
                <a:ext cx="297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152280" y="5713560"/>
            <a:ext cx="8686800" cy="1038600"/>
            <a:chOff x="152280" y="5713560"/>
            <a:chExt cx="8686800" cy="1038600"/>
          </a:xfrm>
        </p:grpSpPr>
        <p:sp>
          <p:nvSpPr>
            <p:cNvPr id="312" name=""/>
            <p:cNvSpPr/>
            <p:nvPr/>
          </p:nvSpPr>
          <p:spPr>
            <a:xfrm>
              <a:off x="152280" y="5713560"/>
              <a:ext cx="8686800" cy="1038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finition: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The structure-preserving condition number: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7467480" y="5791320"/>
                  <a:ext cx="13176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κ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"/>
          <p:cNvGrpSpPr/>
          <p:nvPr/>
        </p:nvGrpSpPr>
        <p:grpSpPr>
          <a:xfrm>
            <a:off x="2514600" y="3503520"/>
            <a:ext cx="1760400" cy="1146600"/>
            <a:chOff x="2514600" y="3503520"/>
            <a:chExt cx="1760400" cy="1146600"/>
          </a:xfrm>
        </p:grpSpPr>
        <p:sp>
          <p:nvSpPr>
            <p:cNvPr id="315" name=""/>
            <p:cNvSpPr/>
            <p:nvPr/>
          </p:nvSpPr>
          <p:spPr>
            <a:xfrm>
              <a:off x="2514600" y="4038480"/>
              <a:ext cx="1760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forward 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</a:rPr>
                <a:t>(on root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038480" y="3503520"/>
              <a:ext cx="1800" cy="6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715000" y="3503520"/>
            <a:ext cx="2057400" cy="1375200"/>
            <a:chOff x="5715000" y="3503520"/>
            <a:chExt cx="2057400" cy="1375200"/>
          </a:xfrm>
        </p:grpSpPr>
        <p:sp>
          <p:nvSpPr>
            <p:cNvPr id="318" name=""/>
            <p:cNvSpPr/>
            <p:nvPr/>
          </p:nvSpPr>
          <p:spPr>
            <a:xfrm>
              <a:off x="5715000" y="4267080"/>
              <a:ext cx="2057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backward 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</a:rPr>
                <a:t>(on da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019920" y="3503520"/>
              <a:ext cx="1440" cy="76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3808080"/>
            <a:ext cx="2590560" cy="1665720"/>
            <a:chOff x="4876920" y="3808080"/>
            <a:chExt cx="2590560" cy="1665720"/>
          </a:xfrm>
        </p:grpSpPr>
        <p:sp>
          <p:nvSpPr>
            <p:cNvPr id="321" name=""/>
            <p:cNvSpPr/>
            <p:nvPr/>
          </p:nvSpPr>
          <p:spPr>
            <a:xfrm>
              <a:off x="4876920" y="510552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condition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181480" y="3808080"/>
              <a:ext cx="1800" cy="129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dur="indefinite" fill="hold">
                      <p:stCondLst>
                        <p:cond delay="indefinite"/>
                      </p:stCondLst>
                      <p:childTnLst>
                        <p:par>
                          <p:cTn id="4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dur="indefinite" fill="hold">
                      <p:stCondLst>
                        <p:cond delay="indefinite"/>
                      </p:stCondLst>
                      <p:childTnLst>
                        <p:par>
                          <p:cTn id="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 flipH="1" rot="20580000">
            <a:off x="1040400" y="593280"/>
            <a:ext cx="9905760" cy="5333760"/>
          </a:xfrm>
          <a:custGeom>
            <a:avLst/>
            <a:gdLst>
              <a:gd name="textAreaLeft" fmla="*/ 4952520 w 9905760"/>
              <a:gd name="textAreaRight" fmla="*/ 9905400 w 9905760"/>
              <a:gd name="textAreaTop" fmla="*/ 0 h 5333760"/>
              <a:gd name="textAreaBottom" fmla="*/ 2666520 h 53337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267080" y="3733920"/>
            <a:ext cx="4191120" cy="2158920"/>
            <a:chOff x="4267080" y="3733920"/>
            <a:chExt cx="4191120" cy="215892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4267080" y="3733920"/>
                  <a:ext cx="320364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‖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‖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κ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‖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‖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486400" y="4495680"/>
                  <a:ext cx="29718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κ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‖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‖</m:t>
                          </m:r>
                          <m:r>
                            <m:t xml:space="preserve">+</m:t>
                          </m:r>
                          <m:r>
                            <m:t xml:space="preserve">‖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r>
                            <m:t xml:space="preserve">‖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5486400" y="5181480"/>
                  <a:ext cx="190512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κ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‖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‖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"/>
          <p:cNvGrpSpPr/>
          <p:nvPr/>
        </p:nvGrpSpPr>
        <p:grpSpPr>
          <a:xfrm>
            <a:off x="457200" y="505800"/>
            <a:ext cx="2515680" cy="2011320"/>
            <a:chOff x="457200" y="505800"/>
            <a:chExt cx="2515680" cy="2011320"/>
          </a:xfrm>
        </p:grpSpPr>
        <p:sp>
          <p:nvSpPr>
            <p:cNvPr id="329" name=""/>
            <p:cNvSpPr/>
            <p:nvPr/>
          </p:nvSpPr>
          <p:spPr>
            <a:xfrm flipH="1">
              <a:off x="912600" y="1752480"/>
              <a:ext cx="2060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580000">
              <a:off x="824040" y="2192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9320000">
              <a:off x="610920" y="122040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3333cc"/>
                  </a:solidFill>
                  <a:latin typeface="Times New Roman"/>
                </a:rPr>
                <a:t>given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polynomial 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 ~ q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20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914400" y="2286000"/>
            <a:ext cx="77472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0580000">
            <a:off x="1685520" y="2865240"/>
            <a:ext cx="763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962520" y="2819520"/>
                <a:ext cx="14475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1825560" y="2895480"/>
            <a:ext cx="19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compu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301760" y="2722680"/>
                <a:ext cx="331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2666880" y="1295280"/>
            <a:ext cx="3990960" cy="869040"/>
            <a:chOff x="2666880" y="1295280"/>
            <a:chExt cx="3990960" cy="869040"/>
          </a:xfrm>
        </p:grpSpPr>
        <p:sp>
          <p:nvSpPr>
            <p:cNvPr id="339" name=""/>
            <p:cNvSpPr/>
            <p:nvPr/>
          </p:nvSpPr>
          <p:spPr>
            <a:xfrm rot="20580000">
              <a:off x="2970360" y="16761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2666880" y="1295280"/>
              <a:ext cx="3990960" cy="869040"/>
              <a:chOff x="2666880" y="1295280"/>
              <a:chExt cx="3990960" cy="869040"/>
            </a:xfrm>
          </p:grpSpPr>
          <p:sp>
            <p:nvSpPr>
              <p:cNvPr id="341" name=""/>
              <p:cNvSpPr/>
              <p:nvPr/>
            </p:nvSpPr>
            <p:spPr>
              <a:xfrm>
                <a:off x="3043440" y="1654200"/>
                <a:ext cx="36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3333cc"/>
                    </a:solidFill>
                    <a:latin typeface="Times New Roman"/>
                  </a:rPr>
                  <a:t>original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polynomial  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(z) = a  ~  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666880" y="1295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727200" y="6095880"/>
            <a:ext cx="46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t is now a </a:t>
            </a:r>
            <a:r>
              <a:rPr b="0" lang="en-GB" sz="2400" spc="-1" strike="noStrike">
                <a:solidFill>
                  <a:srgbClr val="0000cc"/>
                </a:solidFill>
                <a:latin typeface="Verdana"/>
              </a:rPr>
              <a:t>well-pos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probl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2356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4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368720" y="1066680"/>
            <a:ext cx="5870160" cy="507960"/>
            <a:chOff x="1368720" y="1066680"/>
            <a:chExt cx="5870160" cy="507960"/>
          </a:xfrm>
        </p:grpSpPr>
        <p:sp>
          <p:nvSpPr>
            <p:cNvPr id="346" name=""/>
            <p:cNvSpPr/>
            <p:nvPr/>
          </p:nvSpPr>
          <p:spPr>
            <a:xfrm>
              <a:off x="1368720" y="1066680"/>
              <a:ext cx="52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t multiple roots,     condition number 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6629400" y="1066680"/>
                  <a:ext cx="6094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8" name=""/>
          <p:cNvSpPr/>
          <p:nvPr/>
        </p:nvSpPr>
        <p:spPr>
          <a:xfrm>
            <a:off x="362160" y="422280"/>
            <a:ext cx="49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ensitivity measu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886200" y="2362320"/>
            <a:ext cx="5106960" cy="2592360"/>
            <a:chOff x="3886200" y="2362320"/>
            <a:chExt cx="5106960" cy="2592360"/>
          </a:xfrm>
        </p:grpSpPr>
        <p:sp>
          <p:nvSpPr>
            <p:cNvPr id="350" name=""/>
            <p:cNvSpPr/>
            <p:nvPr/>
          </p:nvSpPr>
          <p:spPr>
            <a:xfrm>
              <a:off x="6324480" y="3182760"/>
              <a:ext cx="2667240" cy="17701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.14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.03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.07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.01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86200" y="3182760"/>
              <a:ext cx="243828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       1   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       2     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    20     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0   200    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4480" y="2362320"/>
              <a:ext cx="266724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ructure preserving condition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86200" y="2362320"/>
              <a:ext cx="24382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ultiplic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       l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       l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6200" y="2362320"/>
              <a:ext cx="510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86200" y="3182760"/>
              <a:ext cx="510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86200" y="4952880"/>
              <a:ext cx="5105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86200" y="2362320"/>
              <a:ext cx="1440" cy="25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24480" y="2362320"/>
              <a:ext cx="1800" cy="25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991720" y="2362320"/>
              <a:ext cx="1440" cy="82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991720" y="3182760"/>
              <a:ext cx="1440" cy="17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2040" y="175248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 preserving sensitivity measur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52280" y="2362320"/>
            <a:ext cx="3505320" cy="1261800"/>
            <a:chOff x="152280" y="2362320"/>
            <a:chExt cx="3505320" cy="1261800"/>
          </a:xfrm>
        </p:grpSpPr>
        <mc:AlternateContent>
          <mc:Choice xmlns:a14="http://schemas.microsoft.com/office/drawing/2010/main" Requires="a14">
            <p:sp>
              <p:nvSpPr>
                <p:cNvPr id="363" name=""/>
                <p:cNvSpPr txBox="1"/>
                <p:nvPr/>
              </p:nvSpPr>
              <p:spPr>
                <a:xfrm>
                  <a:off x="152280" y="3200400"/>
                  <a:ext cx="350532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"/>
            <p:cNvSpPr/>
            <p:nvPr/>
          </p:nvSpPr>
          <p:spPr>
            <a:xfrm>
              <a:off x="303480" y="236232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04920" y="518148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ultiple roots may not be sensitive after al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-408960" y="5975280"/>
            <a:ext cx="1010952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onotype Corsiva"/>
              </a:rPr>
              <a:t>After removing </a:t>
            </a:r>
            <a:r>
              <a:rPr b="0" lang="en-GB" sz="2800" spc="-1" strike="noStrike">
                <a:solidFill>
                  <a:srgbClr val="cc3300"/>
                </a:solidFill>
                <a:latin typeface="Monotype Corsiva"/>
              </a:rPr>
              <a:t>ill-posedness</a:t>
            </a:r>
            <a:r>
              <a:rPr b="0" lang="en-GB" sz="2800" spc="-1" strike="noStrike">
                <a:solidFill>
                  <a:srgbClr val="000000"/>
                </a:solidFill>
                <a:latin typeface="Monotype Corsiva"/>
              </a:rPr>
              <a:t>, we also removed </a:t>
            </a:r>
            <a:r>
              <a:rPr b="0" lang="en-GB" sz="2800" spc="-1" strike="noStrike">
                <a:solidFill>
                  <a:srgbClr val="cc3300"/>
                </a:solidFill>
                <a:latin typeface="Monotype Corsiva"/>
              </a:rPr>
              <a:t>ill-condition</a:t>
            </a: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55216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5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dur="indefinite" fill="hold">
                      <p:stCondLst>
                        <p:cond delay="indefinite"/>
                      </p:stCondLst>
                      <p:childTnLst>
                        <p:par>
                          <p:cTn id="5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dur="indefinite" fill="hold">
                      <p:stCondLst>
                        <p:cond delay="indefinite"/>
                      </p:stCondLst>
                      <p:childTnLst>
                        <p:par>
                          <p:cTn id="5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12080" y="604800"/>
            <a:ext cx="74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Monotype Corsiva"/>
              </a:rPr>
              <a:t>Question</a:t>
            </a: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: How to solve the reformulated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876920" y="1828800"/>
                <a:ext cx="2133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658800" y="1595520"/>
            <a:ext cx="40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An overdetermin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for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Monotype Corsiva"/>
              </a:rPr>
              <a:t>least squares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90360" y="3429000"/>
            <a:ext cx="380520" cy="533520"/>
            <a:chOff x="990360" y="3429000"/>
            <a:chExt cx="380520" cy="533520"/>
          </a:xfrm>
        </p:grpSpPr>
        <p:sp>
          <p:nvSpPr>
            <p:cNvPr id="372" name=""/>
            <p:cNvSpPr/>
            <p:nvPr/>
          </p:nvSpPr>
          <p:spPr>
            <a:xfrm>
              <a:off x="990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90360" y="34290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89760" y="2765880"/>
            <a:ext cx="10171800" cy="5982840"/>
            <a:chOff x="689760" y="2765880"/>
            <a:chExt cx="10171800" cy="5982840"/>
          </a:xfrm>
        </p:grpSpPr>
        <p:grpSp>
          <p:nvGrpSpPr>
            <p:cNvPr id="375" name=""/>
            <p:cNvGrpSpPr/>
            <p:nvPr/>
          </p:nvGrpSpPr>
          <p:grpSpPr>
            <a:xfrm>
              <a:off x="689760" y="2765880"/>
              <a:ext cx="10171800" cy="5982840"/>
              <a:chOff x="689760" y="2765880"/>
              <a:chExt cx="10171800" cy="5982840"/>
            </a:xfrm>
          </p:grpSpPr>
          <p:sp>
            <p:nvSpPr>
              <p:cNvPr id="376" name=""/>
              <p:cNvSpPr/>
              <p:nvPr/>
            </p:nvSpPr>
            <p:spPr>
              <a:xfrm flipH="1" rot="21420000">
                <a:off x="822240" y="3158640"/>
                <a:ext cx="9906120" cy="5334120"/>
              </a:xfrm>
              <a:custGeom>
                <a:avLst/>
                <a:gdLst>
                  <a:gd name="textAreaLeft" fmla="*/ 4952520 w 9906120"/>
                  <a:gd name="textAreaRight" fmla="*/ 9905760 w 9906120"/>
                  <a:gd name="textAreaTop" fmla="*/ 0 h 5334120"/>
                  <a:gd name="textAreaBottom" fmla="*/ 2666880 h 53341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0940000">
                <a:off x="3352680" y="2972880"/>
                <a:ext cx="22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ejorative manifo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9440000">
                <a:off x="1446120" y="4192200"/>
                <a:ext cx="131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u=G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1066680" y="396252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904720" y="3962520"/>
            <a:ext cx="3174840" cy="863640"/>
            <a:chOff x="5904720" y="3962520"/>
            <a:chExt cx="3174840" cy="863640"/>
          </a:xfrm>
        </p:grpSpPr>
        <p:sp>
          <p:nvSpPr>
            <p:cNvPr id="381" name=""/>
            <p:cNvSpPr/>
            <p:nvPr/>
          </p:nvSpPr>
          <p:spPr>
            <a:xfrm>
              <a:off x="5904720" y="3962520"/>
              <a:ext cx="31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inimize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=a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r>
                <a:rPr b="0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6242040" y="4511520"/>
                  <a:ext cx="83808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3" name=""/>
          <p:cNvSpPr/>
          <p:nvPr/>
        </p:nvSpPr>
        <p:spPr>
          <a:xfrm>
            <a:off x="86284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6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1447920" y="914400"/>
            <a:ext cx="7467480" cy="1981080"/>
            <a:chOff x="1447920" y="914400"/>
            <a:chExt cx="7467480" cy="1981080"/>
          </a:xfrm>
        </p:grpSpPr>
        <p:sp>
          <p:nvSpPr>
            <p:cNvPr id="385" name=""/>
            <p:cNvSpPr/>
            <p:nvPr/>
          </p:nvSpPr>
          <p:spPr>
            <a:xfrm>
              <a:off x="1447920" y="914400"/>
              <a:ext cx="7467480" cy="19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840000">
              <a:off x="6652080" y="1869840"/>
              <a:ext cx="190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ngent plane 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u = G(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)+J(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1" i="1" lang="en-GB" sz="1600" spc="-1" strike="noStrike">
                  <a:solidFill>
                    <a:srgbClr val="996633"/>
                  </a:solidFill>
                  <a:latin typeface="Times New Roman"/>
                </a:rPr>
                <a:t>z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- z</a:t>
              </a:r>
              <a:r>
                <a:rPr b="1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 rot="18960000">
            <a:off x="-18720" y="1952280"/>
            <a:ext cx="10647360" cy="11128320"/>
          </a:xfrm>
          <a:custGeom>
            <a:avLst/>
            <a:gdLst>
              <a:gd name="textAreaLeft" fmla="*/ 4366440 w 10647360"/>
              <a:gd name="textAreaRight" fmla="*/ 10633320 w 10647360"/>
              <a:gd name="textAreaTop" fmla="*/ 0 h 11128320"/>
              <a:gd name="textAreaBottom" fmla="*/ 5563800 h 11128320"/>
            </a:gdLst>
            <a:ahLst/>
            <a:rect l="textAreaLeft" t="textAreaTop" r="textAreaRight" b="textAreaBottom"/>
            <a:pathLst>
              <a:path stroke="0" w="21600" h="21600">
                <a:moveTo>
                  <a:pt x="8878" y="172"/>
                </a:moveTo>
                <a:arcTo wR="10800" hR="10800" stAng="-6014938" swAng="5761926"/>
                <a:lnTo>
                  <a:pt x="10800" y="10800"/>
                </a:lnTo>
                <a:close/>
              </a:path>
              <a:path fill="none" w="21600" h="21600">
                <a:moveTo>
                  <a:pt x="8878" y="172"/>
                </a:moveTo>
                <a:arcTo wR="10800" hR="10800" stAng="-6014938" swAng="5761926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083280" y="2141640"/>
            <a:ext cx="1068480" cy="1357200"/>
            <a:chOff x="6083280" y="2141640"/>
            <a:chExt cx="1068480" cy="1357200"/>
          </a:xfrm>
        </p:grpSpPr>
        <p:sp>
          <p:nvSpPr>
            <p:cNvPr id="389" name=""/>
            <p:cNvSpPr/>
            <p:nvPr/>
          </p:nvSpPr>
          <p:spPr>
            <a:xfrm rot="3900000">
              <a:off x="6011640" y="2512800"/>
              <a:ext cx="12110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itial ite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=G(</a:t>
              </a: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00800" y="2209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809880" y="685800"/>
            <a:ext cx="76320" cy="76320"/>
          </a:xfrm>
          <a:prstGeom prst="octagon">
            <a:avLst>
              <a:gd name="adj" fmla="val 2314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86200" y="685440"/>
            <a:ext cx="1158120" cy="2735640"/>
            <a:chOff x="3886200" y="685440"/>
            <a:chExt cx="1158120" cy="2735640"/>
          </a:xfrm>
        </p:grpSpPr>
        <p:sp>
          <p:nvSpPr>
            <p:cNvPr id="393" name=""/>
            <p:cNvSpPr/>
            <p:nvPr/>
          </p:nvSpPr>
          <p:spPr>
            <a:xfrm>
              <a:off x="4114800" y="2133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4" name=""/>
            <p:cNvCxnSpPr/>
            <p:nvPr/>
          </p:nvCxnSpPr>
          <p:spPr>
            <a:xfrm>
              <a:off x="3886200" y="685440"/>
              <a:ext cx="255960" cy="1437480"/>
            </a:xfrm>
            <a:prstGeom prst="straightConnector1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</p:cxnSp>
        <p:sp>
          <p:nvSpPr>
            <p:cNvPr id="395" name=""/>
            <p:cNvSpPr/>
            <p:nvPr/>
          </p:nvSpPr>
          <p:spPr>
            <a:xfrm rot="3840000">
              <a:off x="3910680" y="2471760"/>
              <a:ext cx="1232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ejorative ro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1400" spc="-1" strike="noStrike" baseline="-25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=G(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GB" sz="1400" spc="-1" strike="noStrike" baseline="-25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en-GB" sz="1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044880" y="303480"/>
            <a:ext cx="132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polynom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004040" y="761760"/>
            <a:ext cx="2843640" cy="1961640"/>
            <a:chOff x="1004040" y="761760"/>
            <a:chExt cx="2843640" cy="1961640"/>
          </a:xfrm>
        </p:grpSpPr>
        <p:grpSp>
          <p:nvGrpSpPr>
            <p:cNvPr id="398" name=""/>
            <p:cNvGrpSpPr/>
            <p:nvPr/>
          </p:nvGrpSpPr>
          <p:grpSpPr>
            <a:xfrm>
              <a:off x="3581280" y="761760"/>
              <a:ext cx="266400" cy="762120"/>
              <a:chOff x="3581280" y="761760"/>
              <a:chExt cx="266400" cy="762120"/>
            </a:xfrm>
          </p:grpSpPr>
          <p:sp>
            <p:nvSpPr>
              <p:cNvPr id="399" name=""/>
              <p:cNvSpPr/>
              <p:nvPr/>
            </p:nvSpPr>
            <p:spPr>
              <a:xfrm>
                <a:off x="3581280" y="1447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0" name=""/>
              <p:cNvCxnSpPr/>
              <p:nvPr/>
            </p:nvCxnSpPr>
            <p:spPr>
              <a:xfrm flipH="1">
                <a:off x="3656880" y="761760"/>
                <a:ext cx="191160" cy="724680"/>
              </a:xfrm>
              <a:prstGeom prst="straightConnector1">
                <a:avLst/>
              </a:prstGeom>
              <a:ln w="12600">
                <a:solidFill>
                  <a:srgbClr val="996633"/>
                </a:solidFill>
                <a:miter/>
                <a:tailEnd len="med" type="triangle" w="med"/>
              </a:ln>
            </p:spPr>
          </p:cxnSp>
        </p:grpSp>
        <p:grpSp>
          <p:nvGrpSpPr>
            <p:cNvPr id="401" name=""/>
            <p:cNvGrpSpPr/>
            <p:nvPr/>
          </p:nvGrpSpPr>
          <p:grpSpPr>
            <a:xfrm>
              <a:off x="1004040" y="1212120"/>
              <a:ext cx="2777040" cy="1511280"/>
              <a:chOff x="1004040" y="1212120"/>
              <a:chExt cx="2777040" cy="1511280"/>
            </a:xfrm>
          </p:grpSpPr>
          <p:sp>
            <p:nvSpPr>
              <p:cNvPr id="402" name=""/>
              <p:cNvSpPr/>
              <p:nvPr/>
            </p:nvSpPr>
            <p:spPr>
              <a:xfrm rot="20400000">
                <a:off x="1026360" y="1660320"/>
                <a:ext cx="273168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roject to tangent pla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GB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 = G(</a:t>
                </a:r>
                <a:r>
                  <a:rPr b="1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i="1" lang="en-GB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)+J(</a:t>
                </a:r>
                <a:r>
                  <a:rPr b="1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i="1" lang="en-GB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r>
                  <a:rPr b="1" i="1" lang="en-GB" sz="1600" spc="-1" strike="noStrike">
                    <a:solidFill>
                      <a:srgbClr val="996633"/>
                    </a:solidFill>
                    <a:latin typeface="Times New Roman"/>
                  </a:rPr>
                  <a:t>z</a:t>
                </a:r>
                <a:r>
                  <a:rPr b="1" i="1" lang="en-GB" sz="1600" spc="-1" strike="noStrike" baseline="-25000">
                    <a:solidFill>
                      <a:srgbClr val="996633"/>
                    </a:solidFill>
                    <a:latin typeface="Times New Roman"/>
                  </a:rPr>
                  <a:t>1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i="1" lang="en-GB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20400000">
                <a:off x="1674360" y="2057400"/>
                <a:ext cx="38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3215880" y="2209680"/>
            <a:ext cx="1010880" cy="1309320"/>
            <a:chOff x="3215880" y="2209680"/>
            <a:chExt cx="1010880" cy="1309320"/>
          </a:xfrm>
        </p:grpSpPr>
        <p:sp>
          <p:nvSpPr>
            <p:cNvPr id="405" name=""/>
            <p:cNvSpPr/>
            <p:nvPr/>
          </p:nvSpPr>
          <p:spPr>
            <a:xfrm>
              <a:off x="3581280" y="2209680"/>
              <a:ext cx="76320" cy="763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3900000">
              <a:off x="3183480" y="2594880"/>
              <a:ext cx="10753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new ite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=G(</a:t>
              </a:r>
              <a:r>
                <a:rPr b="1" i="1" lang="en-GB" sz="1600" spc="-1" strike="noStrike">
                  <a:solidFill>
                    <a:srgbClr val="996633"/>
                  </a:solidFill>
                  <a:latin typeface="Times New Roman"/>
                </a:rPr>
                <a:t>z</a:t>
              </a:r>
              <a:r>
                <a:rPr b="1" i="1" lang="en-GB" sz="1600" spc="-1" strike="noStrike" baseline="-25000">
                  <a:solidFill>
                    <a:srgbClr val="996633"/>
                  </a:solidFill>
                  <a:latin typeface="Times New Roman"/>
                </a:rPr>
                <a:t>1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rot="18840000">
            <a:off x="354960" y="3308040"/>
            <a:ext cx="178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jorative mani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u = G(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42840" y="3859200"/>
            <a:ext cx="5606640" cy="1241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( </a:t>
            </a:r>
            <a:r>
              <a:rPr b="1" i="1" lang="en-GB" sz="2400" spc="-1" strike="noStrike">
                <a:solidFill>
                  <a:srgbClr val="996633"/>
                </a:solidFill>
                <a:latin typeface="Times New Roman"/>
              </a:rPr>
              <a:t>z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 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linear least squares solution</a:t>
            </a:r>
            <a:r>
              <a:rPr b="0" i="1" lang="en-GB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996633"/>
                </a:solidFill>
                <a:latin typeface="Times New Roman"/>
              </a:rPr>
              <a:t>z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43200" y="3833640"/>
            <a:ext cx="5802840" cy="1292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+J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(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996633"/>
                </a:solidFill>
                <a:latin typeface="Times New Roman"/>
              </a:rPr>
              <a:t>z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- 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=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near least squares solution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996633"/>
                </a:solidFill>
                <a:latin typeface="Times New Roman"/>
              </a:rPr>
              <a:t>z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62240" y="5537520"/>
            <a:ext cx="29811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+J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(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996633"/>
                </a:solidFill>
                <a:latin typeface="Times New Roman"/>
              </a:rPr>
              <a:t>z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- 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56600" y="5612040"/>
            <a:ext cx="35312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(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996633"/>
                </a:solidFill>
                <a:latin typeface="Times New Roman"/>
              </a:rPr>
              <a:t>z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- 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 = - [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-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67400" y="5688360"/>
            <a:ext cx="336384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 -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154944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9988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7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dur="indefinite" fill="hold">
                      <p:stCondLst>
                        <p:cond delay="indefinite"/>
                      </p:stCondLst>
                      <p:childTnLst>
                        <p:par>
                          <p:cTn id="5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dur="indefinite" fill="hold">
                      <p:stCondLst>
                        <p:cond delay="indefinite"/>
                      </p:stCondLst>
                      <p:childTnLst>
                        <p:par>
                          <p:cTn id="5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dur="indefinite" fill="hold">
                      <p:stCondLst>
                        <p:cond delay="indefinite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dur="indefinite" fill="hold">
                      <p:stCondLst>
                        <p:cond delay="indefinite"/>
                      </p:stCondLst>
                      <p:childTnLst>
                        <p:par>
                          <p:cTn id="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dur="indefinite" fill="hold">
                      <p:stCondLst>
                        <p:cond delay="indefinite"/>
                      </p:stCondLst>
                      <p:childTnLst>
                        <p:par>
                          <p:cTn id="5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dur="indefinite" fill="hold">
                      <p:stCondLst>
                        <p:cond delay="indefinite"/>
                      </p:stCondLst>
                      <p:childTnLst>
                        <p:par>
                          <p:cTn id="5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dur="indefinite" fill="hold">
                      <p:stCondLst>
                        <p:cond delay="indefinite"/>
                      </p:stCondLst>
                      <p:childTnLst>
                        <p:par>
                          <p:cTn id="5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dur="indefinite" fill="hold">
                      <p:stCondLst>
                        <p:cond delay="indefinite"/>
                      </p:stCondLst>
                      <p:childTnLst>
                        <p:par>
                          <p:cTn id="5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 fill="hold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7200" y="3276720"/>
            <a:ext cx="8534520" cy="2226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auss-Newton iteration locally conver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t quadratic rate if the polynomial is exa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t linear rate if the polynomial is inexact but 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609480"/>
            <a:ext cx="739152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auss-Newton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i+1)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- 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   i=0,1,2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ere  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is the pseudo-inverse of  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998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8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dur="indefinite" fill="hold">
                      <p:stCondLst>
                        <p:cond delay="indefinite"/>
                      </p:stCondLst>
                      <p:childTnLst>
                        <p:par>
                          <p:cTn id="5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3440" y="3049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ll-posed problems in numer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6720" y="1066680"/>
            <a:ext cx="691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trix rank-reveal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 overdetermined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 multivariate polynomial facto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 polynomial G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ordan Canonical Form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 multiple zeros and eigen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 nonisolated zero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… 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4382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you solve           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048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GB" sz="2400" spc="-1" strike="noStrike" baseline="30000">
                <a:solidFill>
                  <a:srgbClr val="3333cc"/>
                </a:solidFill>
                <a:latin typeface="Times New Roman"/>
              </a:rPr>
              <a:t>100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GB" sz="2400" spc="-1" strike="noStrike" baseline="30000">
                <a:solidFill>
                  <a:srgbClr val="3333cc"/>
                </a:solidFill>
                <a:latin typeface="Times New Roman"/>
              </a:rPr>
              <a:t>99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4950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GB" sz="2400" spc="-1" strike="noStrike" baseline="30000">
                <a:solidFill>
                  <a:srgbClr val="3333cc"/>
                </a:solidFill>
                <a:latin typeface="Times New Roman"/>
              </a:rPr>
              <a:t>98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161700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GB" sz="2400" spc="-1" strike="noStrike" baseline="30000">
                <a:solidFill>
                  <a:srgbClr val="3333cc"/>
                </a:solidFill>
                <a:latin typeface="Times New Roman"/>
              </a:rPr>
              <a:t>97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3921225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GB" sz="2400" spc="-1" strike="noStrike" baseline="30000">
                <a:solidFill>
                  <a:srgbClr val="3333cc"/>
                </a:solidFill>
                <a:latin typeface="Times New Roman"/>
              </a:rPr>
              <a:t>96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- ... -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x +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= 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47712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94480" y="62546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79800" y="45720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gorithm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Giv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362320" y="1219320"/>
            <a:ext cx="5105160" cy="1145520"/>
            <a:chOff x="2362320" y="1219320"/>
            <a:chExt cx="5105160" cy="1145520"/>
          </a:xfrm>
        </p:grpSpPr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5257800" y="1219320"/>
                  <a:ext cx="203364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1" name=""/>
            <p:cNvSpPr/>
            <p:nvPr/>
          </p:nvSpPr>
          <p:spPr>
            <a:xfrm>
              <a:off x="2362320" y="1243080"/>
              <a:ext cx="253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3333cc"/>
                  </a:solidFill>
                  <a:latin typeface="Times New Roman"/>
                </a:rPr>
                <a:t>multiplicity structu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62320" y="1905120"/>
              <a:ext cx="181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initial itera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5257800" y="1905120"/>
                  <a:ext cx="220968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4" name=""/>
          <p:cNvSpPr/>
          <p:nvPr/>
        </p:nvSpPr>
        <p:spPr>
          <a:xfrm>
            <a:off x="914400" y="2743200"/>
            <a:ext cx="73915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y the Gauss-Newton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i+1)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- 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   i=0,1,2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429000" y="4114800"/>
            <a:ext cx="3886200" cy="558720"/>
            <a:chOff x="3429000" y="4114800"/>
            <a:chExt cx="3886200" cy="558720"/>
          </a:xfrm>
        </p:grpSpPr>
        <p:sp>
          <p:nvSpPr>
            <p:cNvPr id="426" name=""/>
            <p:cNvSpPr/>
            <p:nvPr/>
          </p:nvSpPr>
          <p:spPr>
            <a:xfrm>
              <a:off x="3429000" y="4191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4343400" y="4114800"/>
                  <a:ext cx="2971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∈</m:t>
                      </m:r>
                      <m:d>
                        <m:dPr>
                          <m:begChr m:val=""/>
                          <m:endChr m:val="}"/>
                        </m:dPr>
                        <m:e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8" name=""/>
          <p:cNvSpPr/>
          <p:nvPr/>
        </p:nvSpPr>
        <p:spPr>
          <a:xfrm>
            <a:off x="1065600" y="5410080"/>
            <a:ext cx="603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well-posed and well conditioned proble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roots can be calculated accu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47620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29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dur="indefinite" fill="hold">
                      <p:stCondLst>
                        <p:cond delay="indefinite"/>
                      </p:stCondLst>
                      <p:childTnLst>
                        <p:par>
                          <p:cTn id="6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 fill="hold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dur="indefinite" fill="hold">
                      <p:stCondLst>
                        <p:cond delay="indefinite"/>
                      </p:stCondLst>
                      <p:childTnLst>
                        <p:par>
                          <p:cTn id="6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dur="indefinite" fill="hold">
                      <p:stCondLst>
                        <p:cond delay="indefinite"/>
                      </p:stCondLst>
                      <p:childTnLst>
                        <p:par>
                          <p:cTn id="6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dur="indefinite" fill="hold">
                      <p:stCondLst>
                        <p:cond delay="indefinite"/>
                      </p:stCondLst>
                      <p:childTnLst>
                        <p:par>
                          <p:cTn id="6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78720" y="15228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the multiplicit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685800"/>
            <a:ext cx="656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2) 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3) =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[(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-1)</a:t>
            </a:r>
            <a:r>
              <a:rPr b="0" lang="en-GB" sz="22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-2) </a:t>
            </a:r>
            <a:r>
              <a:rPr b="0" lang="en-GB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[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1)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2)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3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4480" y="1066680"/>
            <a:ext cx="79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[(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-1)</a:t>
            </a:r>
            <a:r>
              <a:rPr b="0" lang="en-GB" sz="22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-2) </a:t>
            </a:r>
            <a:r>
              <a:rPr b="0" lang="en-GB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1)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2)+5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2)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3)+3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1)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3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51760" y="1600200"/>
            <a:ext cx="309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p,p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[(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-1)</a:t>
            </a:r>
            <a:r>
              <a:rPr b="0" lang="en-GB" sz="22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-2) </a:t>
            </a:r>
            <a:r>
              <a:rPr b="0" lang="en-GB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988560" y="2590920"/>
            <a:ext cx="4831200" cy="2414880"/>
            <a:chOff x="988560" y="2590920"/>
            <a:chExt cx="4831200" cy="2414880"/>
          </a:xfrm>
        </p:grpSpPr>
        <p:sp>
          <p:nvSpPr>
            <p:cNvPr id="435" name=""/>
            <p:cNvSpPr/>
            <p:nvPr/>
          </p:nvSpPr>
          <p:spPr>
            <a:xfrm>
              <a:off x="990720" y="2590920"/>
              <a:ext cx="4829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[(</a:t>
              </a:r>
              <a:r>
                <a:rPr b="0" i="1" lang="en-GB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-1)</a:t>
              </a:r>
              <a:r>
                <a:rPr b="0" lang="en-GB" sz="2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i="1" lang="en-GB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-2) </a:t>
              </a:r>
              <a:r>
                <a:rPr b="0" lang="en-GB" sz="2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]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1)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2)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3)]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88920" y="3048120"/>
              <a:ext cx="419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[(</a:t>
              </a:r>
              <a:r>
                <a:rPr b="0" i="1" lang="en-GB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-1)</a:t>
              </a:r>
              <a:r>
                <a:rPr b="0" lang="en-GB" sz="22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i="1" lang="en-GB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-2) ]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1)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2)]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88920" y="3581280"/>
              <a:ext cx="419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[(</a:t>
              </a:r>
              <a:r>
                <a:rPr b="0" i="1" lang="en-GB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-1)</a:t>
              </a:r>
              <a:r>
                <a:rPr b="0" lang="en-GB" sz="2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]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1)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2)]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88560" y="4038480"/>
              <a:ext cx="365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[(</a:t>
              </a:r>
              <a:r>
                <a:rPr b="0" i="1" lang="en-GB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-1)]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1)]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88560" y="4495680"/>
              <a:ext cx="365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[1]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1)]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232680" y="2098800"/>
            <a:ext cx="2153880" cy="2872080"/>
            <a:chOff x="6232680" y="2098800"/>
            <a:chExt cx="2153880" cy="2872080"/>
          </a:xfrm>
        </p:grpSpPr>
        <p:sp>
          <p:nvSpPr>
            <p:cNvPr id="441" name=""/>
            <p:cNvSpPr/>
            <p:nvPr/>
          </p:nvSpPr>
          <p:spPr>
            <a:xfrm>
              <a:off x="6232680" y="2098800"/>
              <a:ext cx="185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inct roo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48880" y="266688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48520" y="312408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48520" y="365760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8520" y="411480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8520" y="457200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419720" y="5105520"/>
            <a:ext cx="4367160" cy="916920"/>
            <a:chOff x="4419720" y="5105520"/>
            <a:chExt cx="4367160" cy="916920"/>
          </a:xfrm>
        </p:grpSpPr>
        <p:sp>
          <p:nvSpPr>
            <p:cNvPr id="448" name=""/>
            <p:cNvSpPr/>
            <p:nvPr/>
          </p:nvSpPr>
          <p:spPr>
            <a:xfrm>
              <a:off x="4419720" y="5105520"/>
              <a:ext cx="43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5562720"/>
              <a:ext cx="399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ultiplicities   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80880" y="5410080"/>
            <a:ext cx="2803680" cy="926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9988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0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dur="indefinite" fill="hold">
                      <p:stCondLst>
                        <p:cond delay="indefinite"/>
                      </p:stCondLst>
                      <p:childTnLst>
                        <p:par>
                          <p:cTn id="6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 fill="hold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dur="indefinite" fill="hold">
                      <p:stCondLst>
                        <p:cond delay="indefinite"/>
                      </p:stCondLst>
                      <p:childTnLst>
                        <p:par>
                          <p:cTn id="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3" dur="500" fill="hold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dur="indefinite" fill="hold">
                      <p:stCondLst>
                        <p:cond delay="indefinite"/>
                      </p:stCondLst>
                      <p:childTnLst>
                        <p:par>
                          <p:cTn id="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dur="indefinite" fill="hold">
                      <p:stCondLst>
                        <p:cond delay="indefinite"/>
                      </p:stCondLst>
                      <p:childTnLst>
                        <p:par>
                          <p:cTn id="6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dur="indefinite" fill="hold">
                      <p:stCondLst>
                        <p:cond delay="indefinite"/>
                      </p:stCondLst>
                      <p:childTnLst>
                        <p:par>
                          <p:cTn id="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dur="indefinite" fill="hold">
                      <p:stCondLst>
                        <p:cond delay="indefinite"/>
                      </p:stCondLst>
                      <p:childTnLst>
                        <p:par>
                          <p:cTn id="6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884160" y="2286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quarefre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16800" y="838080"/>
            <a:ext cx="3667320" cy="2153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fo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j = 0, 1, … </a:t>
            </a: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whi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deg(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 &gt; 0 </a:t>
            </a: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j+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= GCD(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j+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j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end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719280" y="2971800"/>
            <a:ext cx="7181640" cy="533520"/>
            <a:chOff x="719280" y="2971800"/>
            <a:chExt cx="7181640" cy="533520"/>
          </a:xfrm>
        </p:grpSpPr>
        <p:sp>
          <p:nvSpPr>
            <p:cNvPr id="455" name=""/>
            <p:cNvSpPr/>
            <p:nvPr/>
          </p:nvSpPr>
          <p:spPr>
            <a:xfrm>
              <a:off x="4635360" y="3048120"/>
              <a:ext cx="3265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with 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Verdana"/>
                </a:rPr>
                <a:t>j</a:t>
              </a: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’s being square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19280" y="2971800"/>
              <a:ext cx="3774240" cy="533520"/>
              <a:chOff x="719280" y="2971800"/>
              <a:chExt cx="377424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719280" y="2971800"/>
                <a:ext cx="3774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Monotype Corsiva"/>
                  </a:rPr>
                  <a:t>Output :      f  =  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Verdana"/>
                  </a:rPr>
                  <a:t>v</a:t>
                </a:r>
                <a:r>
                  <a:rPr b="0" i="1" lang="en-GB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Verdana"/>
                  </a:rPr>
                  <a:t> v</a:t>
                </a:r>
                <a:r>
                  <a:rPr b="0" i="1" lang="en-GB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Verdana"/>
                  </a:rPr>
                  <a:t> … v</a:t>
                </a:r>
                <a:r>
                  <a:rPr b="0" i="1" lang="en-GB" sz="2400" spc="-1" strike="noStrike" baseline="-25000">
                    <a:solidFill>
                      <a:srgbClr val="000000"/>
                    </a:solidFill>
                    <a:latin typeface="Verdan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Monotype Corsiva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28800" y="2971800"/>
                <a:ext cx="2362320" cy="53352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1330560" y="3917880"/>
            <a:ext cx="47347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number of distinct roots: m = deg(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199520" y="4648320"/>
            <a:ext cx="6633360" cy="1079280"/>
            <a:chOff x="1199520" y="4648320"/>
            <a:chExt cx="6633360" cy="1079280"/>
          </a:xfrm>
        </p:grpSpPr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6553080" y="5334120"/>
                  <a:ext cx="127980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62" name=""/>
            <p:cNvGrpSpPr/>
            <p:nvPr/>
          </p:nvGrpSpPr>
          <p:grpSpPr>
            <a:xfrm>
              <a:off x="1199520" y="4648320"/>
              <a:ext cx="5429880" cy="1079280"/>
              <a:chOff x="1199520" y="4648320"/>
              <a:chExt cx="5429880" cy="1079280"/>
            </a:xfrm>
          </p:grpSpPr>
          <p:sp>
            <p:nvSpPr>
              <p:cNvPr id="463" name=""/>
              <p:cNvSpPr/>
              <p:nvPr/>
            </p:nvSpPr>
            <p:spPr>
              <a:xfrm>
                <a:off x="1199520" y="4648320"/>
                <a:ext cx="304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Verdana"/>
                  </a:rPr>
                  <a:t>-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Verdana"/>
                  </a:rPr>
                  <a:t>The multiplicity struc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4" name=""/>
                  <p:cNvSpPr txBox="1"/>
                  <p:nvPr/>
                </p:nvSpPr>
                <p:spPr>
                  <a:xfrm>
                    <a:off x="1576440" y="5257800"/>
                    <a:ext cx="4522680" cy="46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</m:d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e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≥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  <m:d>
                          <m:dPr>
                            <m:begChr m:val=""/>
                            <m:endChr m:val="}"/>
                          </m:dPr>
                        </m:d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4800600" y="4648320"/>
                    <a:ext cx="182880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66" name=""/>
          <p:cNvSpPr/>
          <p:nvPr/>
        </p:nvSpPr>
        <p:spPr>
          <a:xfrm>
            <a:off x="1363320" y="5791320"/>
            <a:ext cx="6145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oots of  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’s  are initial approximation to the roots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133720" y="1676520"/>
            <a:ext cx="5572440" cy="380880"/>
            <a:chOff x="2133720" y="1676520"/>
            <a:chExt cx="5572440" cy="380880"/>
          </a:xfrm>
        </p:grpSpPr>
        <p:sp>
          <p:nvSpPr>
            <p:cNvPr id="468" name=""/>
            <p:cNvSpPr/>
            <p:nvPr/>
          </p:nvSpPr>
          <p:spPr>
            <a:xfrm>
              <a:off x="2133720" y="1676520"/>
              <a:ext cx="2361960" cy="38088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4494240" y="1828800"/>
              <a:ext cx="2060640" cy="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3520" y="167652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the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832356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1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dur="indefinite" fill="hold">
                      <p:stCondLst>
                        <p:cond delay="indefinite"/>
                      </p:stCondLst>
                      <p:childTnLst>
                        <p:par>
                          <p:cTn id="6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dur="indefinite" fill="hold">
                      <p:stCondLst>
                        <p:cond delay="indefinite"/>
                      </p:stCondLst>
                      <p:childTnLst>
                        <p:par>
                          <p:cTn id="6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3" dur="500" fill="hold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dur="indefinite" fill="hold">
                      <p:stCondLst>
                        <p:cond delay="indefinite"/>
                      </p:stCondLst>
                      <p:childTnLst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8" dur="500" fill="hold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dur="indefinite" fill="hold">
                      <p:stCondLst>
                        <p:cond delay="indefinite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3" dur="500" fill="hold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dur="indefinite" fill="hold">
                      <p:stCondLst>
                        <p:cond delay="indefinite"/>
                      </p:stCondLst>
                      <p:childTnLst>
                        <p:par>
                          <p:cTn id="7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80880" y="152280"/>
            <a:ext cx="71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ot-finding leads to another </a:t>
            </a:r>
            <a:r>
              <a:rPr b="0" lang="en-GB" sz="2800" spc="-1" strike="noStrike" u="sng">
                <a:solidFill>
                  <a:srgbClr val="0000cc"/>
                </a:solidFill>
                <a:uFillTx/>
                <a:latin typeface="Times New Roman"/>
              </a:rPr>
              <a:t>ill-posed problem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5486400"/>
            <a:ext cx="76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e Approximate GCD of inexact polynomials. Part I: a univariate algorith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. Ze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e Approximate GCD of inexact polynomials. Part II: a multivariate algorith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. Zeng and B. Day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914400" y="3124080"/>
            <a:ext cx="7429680" cy="1905840"/>
            <a:chOff x="914400" y="3124080"/>
            <a:chExt cx="7429680" cy="1905840"/>
          </a:xfrm>
        </p:grpSpPr>
        <p:sp>
          <p:nvSpPr>
            <p:cNvPr id="475" name=""/>
            <p:cNvSpPr/>
            <p:nvPr/>
          </p:nvSpPr>
          <p:spPr>
            <a:xfrm>
              <a:off x="914400" y="3124080"/>
              <a:ext cx="742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hich is an important application problem in its own righ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73720" y="3962520"/>
              <a:ext cx="6115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Verdana"/>
                </a:rPr>
                <a:t>Applications: Robotics, computer vision, image restoration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Verdana"/>
                </a:rPr>
                <a:t>control theory, system identification, canonic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Verdana"/>
                </a:rPr>
                <a:t>transformation, mechanical geometry theorem proving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Verdana"/>
                </a:rPr>
                <a:t>hybrid rational function approximation … 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988560" y="990720"/>
            <a:ext cx="6615000" cy="1896840"/>
            <a:chOff x="988560" y="990720"/>
            <a:chExt cx="6615000" cy="1896840"/>
          </a:xfrm>
        </p:grpSpPr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1676520" y="1676520"/>
                  <a:ext cx="1681200" cy="12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9" name=""/>
                <p:cNvSpPr txBox="1"/>
                <p:nvPr/>
              </p:nvSpPr>
              <p:spPr>
                <a:xfrm>
                  <a:off x="4038480" y="1981080"/>
                  <a:ext cx="259092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GCD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g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0" name=""/>
            <p:cNvSpPr/>
            <p:nvPr/>
          </p:nvSpPr>
          <p:spPr>
            <a:xfrm>
              <a:off x="988560" y="990720"/>
              <a:ext cx="66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or given polynomial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g,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in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u, v, w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832356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2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dur="indefinite" fill="hold">
                      <p:stCondLst>
                        <p:cond delay="indefinite"/>
                      </p:stCondLst>
                      <p:childTnLst>
                        <p:par>
                          <p:cTn id="7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dur="indefinite" fill="hold">
                      <p:stCondLst>
                        <p:cond delay="indefinite"/>
                      </p:stCondLst>
                      <p:childTnLst>
                        <p:par>
                          <p:cTn id="7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 fill="hold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dur="indefinite" fill="hold">
                      <p:stCondLst>
                        <p:cond delay="indefinite"/>
                      </p:stCondLst>
                      <p:childTnLst>
                        <p:par>
                          <p:cTn id="7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1" dur="500" fill="hold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704880" y="304920"/>
            <a:ext cx="7642080" cy="977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gain, the ke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ove ill-posedness by reformulating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77560" y="157644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Verdana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lang="en-GB" sz="2400" spc="-1" strike="noStrike">
                <a:solidFill>
                  <a:srgbClr val="0000cc"/>
                </a:solidFill>
                <a:latin typeface="Verdana"/>
              </a:rPr>
              <a:t>degre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f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u = GCD(f,g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is kn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914400" y="2666880"/>
            <a:ext cx="5715000" cy="1346400"/>
            <a:chOff x="914400" y="2666880"/>
            <a:chExt cx="5715000" cy="1346400"/>
          </a:xfrm>
        </p:grpSpPr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914400" y="2743200"/>
                  <a:ext cx="1681200" cy="12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86" name=""/>
            <p:cNvSpPr/>
            <p:nvPr/>
          </p:nvSpPr>
          <p:spPr>
            <a:xfrm>
              <a:off x="3048120" y="30481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4343400" y="2666880"/>
                  <a:ext cx="2286000" cy="13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8" name=""/>
          <p:cNvGrpSpPr/>
          <p:nvPr/>
        </p:nvGrpSpPr>
        <p:grpSpPr>
          <a:xfrm>
            <a:off x="873720" y="4114800"/>
            <a:ext cx="5877720" cy="1157400"/>
            <a:chOff x="873720" y="4114800"/>
            <a:chExt cx="5877720" cy="1157400"/>
          </a:xfrm>
        </p:grpSpPr>
        <p:sp>
          <p:nvSpPr>
            <p:cNvPr id="489" name=""/>
            <p:cNvSpPr/>
            <p:nvPr/>
          </p:nvSpPr>
          <p:spPr>
            <a:xfrm>
              <a:off x="873720" y="4114800"/>
              <a:ext cx="120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2400" y="4800600"/>
              <a:ext cx="30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:  coefficient vec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523880" y="4648320"/>
                  <a:ext cx="190512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g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1523880" y="5562720"/>
            <a:ext cx="5610600" cy="574560"/>
            <a:chOff x="1523880" y="5562720"/>
            <a:chExt cx="5610600" cy="57456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1523880" y="5611680"/>
                  <a:ext cx="18734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3707640" y="5562720"/>
              <a:ext cx="34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:  convolution matr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3998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3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dur="indefinite" fill="hold">
                      <p:stCondLst>
                        <p:cond delay="indefinite"/>
                      </p:stCondLst>
                      <p:childTnLst>
                        <p:par>
                          <p:cTn id="7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dur="indefinite" fill="hold">
                      <p:stCondLst>
                        <p:cond delay="indefinite"/>
                      </p:stCondLst>
                      <p:childTnLst>
                        <p:par>
                          <p:cTn id="7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dur="indefinite" fill="hold">
                      <p:stCondLst>
                        <p:cond delay="indefinite"/>
                      </p:stCondLst>
                      <p:childTnLst>
                        <p:par>
                          <p:cTn id="7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dur="indefinite" fill="hold">
                      <p:stCondLst>
                        <p:cond delay="indefinite"/>
                      </p:stCondLst>
                      <p:childTnLst>
                        <p:par>
                          <p:cTn id="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743200" y="3048120"/>
                <a:ext cx="27828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705240" y="152280"/>
            <a:ext cx="6837120" cy="1698840"/>
            <a:chOff x="705240" y="152280"/>
            <a:chExt cx="6837120" cy="1698840"/>
          </a:xfrm>
        </p:grpSpPr>
        <p:sp>
          <p:nvSpPr>
            <p:cNvPr id="498" name=""/>
            <p:cNvSpPr/>
            <p:nvPr/>
          </p:nvSpPr>
          <p:spPr>
            <a:xfrm>
              <a:off x="705240" y="743040"/>
              <a:ext cx="1038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Verdana"/>
                </a:rPr>
                <a:t>Defi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2225520" y="152280"/>
                  <a:ext cx="3341880" cy="169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≡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p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340320" y="152280"/>
                  <a:ext cx="1202040" cy="164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≡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"/>
          <p:cNvGrpSpPr/>
          <p:nvPr/>
        </p:nvGrpSpPr>
        <p:grpSpPr>
          <a:xfrm>
            <a:off x="667440" y="2286000"/>
            <a:ext cx="6996600" cy="459720"/>
            <a:chOff x="667440" y="2286000"/>
            <a:chExt cx="6996600" cy="459720"/>
          </a:xfrm>
        </p:grpSpPr>
        <p:sp>
          <p:nvSpPr>
            <p:cNvPr id="502" name=""/>
            <p:cNvSpPr/>
            <p:nvPr/>
          </p:nvSpPr>
          <p:spPr>
            <a:xfrm>
              <a:off x="4069440" y="2286000"/>
              <a:ext cx="359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overdetermined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7440" y="2286000"/>
              <a:ext cx="19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GCD-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43200" y="2438280"/>
              <a:ext cx="990720" cy="228600"/>
            </a:xfrm>
            <a:prstGeom prst="leftRightArrow">
              <a:avLst>
                <a:gd name="adj1" fmla="val 50000"/>
                <a:gd name="adj2" fmla="val 8627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486360" y="4419720"/>
            <a:ext cx="35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formulated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a least squares probl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196240" y="4572000"/>
            <a:ext cx="3304800" cy="870840"/>
            <a:chOff x="5196240" y="4572000"/>
            <a:chExt cx="3304800" cy="870840"/>
          </a:xfrm>
        </p:grpSpPr>
        <mc:AlternateContent>
          <mc:Choice xmlns:a14="http://schemas.microsoft.com/office/drawing/2010/main" Requires="a14">
            <p:sp>
              <p:nvSpPr>
                <p:cNvPr id="507" name=""/>
                <p:cNvSpPr txBox="1"/>
                <p:nvPr/>
              </p:nvSpPr>
              <p:spPr>
                <a:xfrm>
                  <a:off x="6337440" y="4572000"/>
                  <a:ext cx="2163600" cy="7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  <m:r>
                                <m:t xml:space="preserve">,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  <m:r>
                                <m:t xml:space="preserve">,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w</m:t>
                                  </m:r>
                                </m:e>
                              </m:acc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</m:d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08" name=""/>
            <p:cNvSpPr/>
            <p:nvPr/>
          </p:nvSpPr>
          <p:spPr>
            <a:xfrm>
              <a:off x="5196240" y="4572000"/>
              <a:ext cx="1159200" cy="87084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Minim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824760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4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 fill="hold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 fill="hold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dur="indefinite" fill="hold">
                      <p:stCondLst>
                        <p:cond delay="indefinite"/>
                      </p:stCondLst>
                      <p:childTnLst>
                        <p:par>
                          <p:cTn id="7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2" dur="5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 fill="hold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830160" y="3352680"/>
            <a:ext cx="7583760" cy="1548000"/>
            <a:chOff x="830160" y="3352680"/>
            <a:chExt cx="7583760" cy="1548000"/>
          </a:xfrm>
        </p:grpSpPr>
        <p:sp>
          <p:nvSpPr>
            <p:cNvPr id="511" name=""/>
            <p:cNvSpPr/>
            <p:nvPr/>
          </p:nvSpPr>
          <p:spPr>
            <a:xfrm>
              <a:off x="830160" y="3809880"/>
              <a:ext cx="170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The Jacobi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3200400" y="3352680"/>
                  <a:ext cx="5213520" cy="15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eqArr>
                                  <m:e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e>
                                  <m:e>
                                    <m:r>
                                      <m:t xml:space="preserve">C</m:t>
                                    </m:r>
                                    <m:r>
                                      <m:t xml:space="preserve">(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</m:e>
                                </m:eqArr>
                              </m:e>
                              <m:e>
                                <m:eqArr>
                                  <m:e/>
                                  <m:e>
                                    <m:r>
                                      <m:t xml:space="preserve">C</m:t>
                                    </m:r>
                                    <m:r>
                                      <m:t xml:space="preserve">(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  <m:r>
                                      <m:t xml:space="preserve">)</m:t>
                                    </m:r>
                                  </m:e>
                                </m:eqArr>
                              </m:e>
                              <m:e>
                                <m:eqArr>
                                  <m:e/>
                                  <m:e/>
                                </m:eqAr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  <m:e/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192600" y="5334120"/>
            <a:ext cx="10694520" cy="103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Monotype Corsiva"/>
              </a:rPr>
              <a:t>Theorem</a:t>
            </a: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:  The  Jacobian is of full rank  if v and w are co-prime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28800" y="380880"/>
            <a:ext cx="6734160" cy="2490840"/>
            <a:chOff x="928800" y="380880"/>
            <a:chExt cx="6734160" cy="2490840"/>
          </a:xfrm>
        </p:grpSpPr>
        <p:grpSp>
          <p:nvGrpSpPr>
            <p:cNvPr id="515" name=""/>
            <p:cNvGrpSpPr/>
            <p:nvPr/>
          </p:nvGrpSpPr>
          <p:grpSpPr>
            <a:xfrm>
              <a:off x="4358160" y="380880"/>
              <a:ext cx="3304800" cy="870840"/>
              <a:chOff x="4358160" y="380880"/>
              <a:chExt cx="3304800" cy="870840"/>
            </a:xfrm>
          </p:grpSpPr>
          <mc:AlternateContent>
            <mc:Choice xmlns:a14="http://schemas.microsoft.com/office/drawing/2010/main" Requires="a14">
              <p:sp>
                <p:nvSpPr>
                  <p:cNvPr id="516" name=""/>
                  <p:cNvSpPr txBox="1"/>
                  <p:nvPr/>
                </p:nvSpPr>
                <p:spPr>
                  <a:xfrm>
                    <a:off x="5499000" y="380880"/>
                    <a:ext cx="2163960" cy="738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7" name=""/>
              <p:cNvSpPr/>
              <p:nvPr/>
            </p:nvSpPr>
            <p:spPr>
              <a:xfrm>
                <a:off x="4358160" y="380880"/>
                <a:ext cx="1159200" cy="87084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Verdana"/>
                  </a:rPr>
                  <a:t>Minim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1134360" y="53352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For the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28800" y="1981080"/>
              <a:ext cx="744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Verdana"/>
                </a:rPr>
                <a:t>wit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1981080" y="1523880"/>
                  <a:ext cx="265140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≡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p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105520" y="1600200"/>
                  <a:ext cx="89352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≡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2" name=""/>
          <p:cNvSpPr/>
          <p:nvPr/>
        </p:nvSpPr>
        <p:spPr>
          <a:xfrm>
            <a:off x="4872240" y="624852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--- ill posedness is remov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47620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5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dur="indefinite" fill="hold">
                      <p:stCondLst>
                        <p:cond delay="indefinite"/>
                      </p:stCondLst>
                      <p:childTnLst>
                        <p:par>
                          <p:cTn id="7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dur="indefinite" fill="hold">
                      <p:stCondLst>
                        <p:cond delay="indefinite"/>
                      </p:stCondLst>
                      <p:childTnLst>
                        <p:par>
                          <p:cTn id="7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dur="indefinite" fill="hold">
                      <p:stCondLst>
                        <p:cond delay="indefinite"/>
                      </p:stCondLst>
                      <p:childTnLst>
                        <p:par>
                          <p:cTn id="7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3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560880" y="228600"/>
            <a:ext cx="553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llustration of the reformulated proble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6553080" y="152280"/>
                <a:ext cx="1828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26" name=""/>
          <p:cNvGrpSpPr/>
          <p:nvPr/>
        </p:nvGrpSpPr>
        <p:grpSpPr>
          <a:xfrm>
            <a:off x="609480" y="1420200"/>
            <a:ext cx="2500560" cy="2050200"/>
            <a:chOff x="609480" y="1420200"/>
            <a:chExt cx="2500560" cy="2050200"/>
          </a:xfrm>
        </p:grpSpPr>
        <p:sp>
          <p:nvSpPr>
            <p:cNvPr id="527" name=""/>
            <p:cNvSpPr/>
            <p:nvPr/>
          </p:nvSpPr>
          <p:spPr>
            <a:xfrm flipH="1">
              <a:off x="1049400" y="2666880"/>
              <a:ext cx="2060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09480" y="1420200"/>
              <a:ext cx="2421720" cy="2050200"/>
              <a:chOff x="609480" y="1420200"/>
              <a:chExt cx="2421720" cy="2050200"/>
            </a:xfrm>
          </p:grpSpPr>
          <p:sp>
            <p:nvSpPr>
              <p:cNvPr id="529" name=""/>
              <p:cNvSpPr/>
              <p:nvPr/>
            </p:nvSpPr>
            <p:spPr>
              <a:xfrm rot="20580000">
                <a:off x="960480" y="31068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9320000">
                <a:off x="747360" y="2134800"/>
                <a:ext cx="243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3333cc"/>
                    </a:solidFill>
                    <a:latin typeface="Times New Roman"/>
                  </a:rPr>
                  <a:t>perturbed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polynomial pai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1" name=""/>
                  <p:cNvSpPr txBox="1"/>
                  <p:nvPr/>
                </p:nvSpPr>
                <p:spPr>
                  <a:xfrm>
                    <a:off x="609480" y="2957400"/>
                    <a:ext cx="331920" cy="51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32" name=""/>
            <p:cNvSpPr/>
            <p:nvPr/>
          </p:nvSpPr>
          <p:spPr>
            <a:xfrm rot="20580000">
              <a:off x="960480" y="3121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9320000">
              <a:off x="747360" y="214920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3333cc"/>
                  </a:solidFill>
                  <a:latin typeface="Times New Roman"/>
                </a:rPr>
                <a:t>perturbed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polynomial p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113280" y="2581560"/>
            <a:ext cx="5540040" cy="552240"/>
            <a:chOff x="3113280" y="2581560"/>
            <a:chExt cx="5540040" cy="552240"/>
          </a:xfrm>
        </p:grpSpPr>
        <p:sp>
          <p:nvSpPr>
            <p:cNvPr id="535" name=""/>
            <p:cNvSpPr/>
            <p:nvPr/>
          </p:nvSpPr>
          <p:spPr>
            <a:xfrm rot="20580000">
              <a:off x="3122640" y="2590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42520" y="2665440"/>
              <a:ext cx="271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3333cc"/>
                  </a:solidFill>
                  <a:latin typeface="Times New Roman"/>
                </a:rPr>
                <a:t>original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polynomial pair (f,g) 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3276720" y="2590920"/>
                  <a:ext cx="25938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8" name=""/>
          <p:cNvGrpSpPr/>
          <p:nvPr/>
        </p:nvGrpSpPr>
        <p:grpSpPr>
          <a:xfrm>
            <a:off x="1066680" y="3200400"/>
            <a:ext cx="844920" cy="690840"/>
            <a:chOff x="1066680" y="3200400"/>
            <a:chExt cx="844920" cy="690840"/>
          </a:xfrm>
        </p:grpSpPr>
        <p:sp>
          <p:nvSpPr>
            <p:cNvPr id="539" name=""/>
            <p:cNvSpPr/>
            <p:nvPr/>
          </p:nvSpPr>
          <p:spPr>
            <a:xfrm rot="20580000">
              <a:off x="1825560" y="3805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66680" y="32004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981080" y="3733920"/>
            <a:ext cx="6245640" cy="512640"/>
            <a:chOff x="1981080" y="3733920"/>
            <a:chExt cx="6245640" cy="512640"/>
          </a:xfrm>
        </p:grpSpPr>
        <p:sp>
          <p:nvSpPr>
            <p:cNvPr id="542" name=""/>
            <p:cNvSpPr/>
            <p:nvPr/>
          </p:nvSpPr>
          <p:spPr>
            <a:xfrm>
              <a:off x="4492080" y="3809880"/>
              <a:ext cx="373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rojected polynomials with computed G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1981080" y="3733920"/>
                  <a:ext cx="253368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/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/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/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4" name=""/>
          <p:cNvGrpSpPr/>
          <p:nvPr/>
        </p:nvGrpSpPr>
        <p:grpSpPr>
          <a:xfrm>
            <a:off x="630000" y="176400"/>
            <a:ext cx="11032920" cy="7997400"/>
            <a:chOff x="630000" y="176400"/>
            <a:chExt cx="11032920" cy="7997400"/>
          </a:xfrm>
        </p:grpSpPr>
        <p:grpSp>
          <p:nvGrpSpPr>
            <p:cNvPr id="545" name=""/>
            <p:cNvGrpSpPr/>
            <p:nvPr/>
          </p:nvGrpSpPr>
          <p:grpSpPr>
            <a:xfrm>
              <a:off x="630000" y="176400"/>
              <a:ext cx="11032920" cy="7997400"/>
              <a:chOff x="630000" y="176400"/>
              <a:chExt cx="11032920" cy="7997400"/>
            </a:xfrm>
          </p:grpSpPr>
          <p:sp>
            <p:nvSpPr>
              <p:cNvPr id="546" name=""/>
              <p:cNvSpPr/>
              <p:nvPr/>
            </p:nvSpPr>
            <p:spPr>
              <a:xfrm flipH="1" rot="20580000">
                <a:off x="1192680" y="1507680"/>
                <a:ext cx="9906120" cy="5334120"/>
              </a:xfrm>
              <a:custGeom>
                <a:avLst/>
                <a:gdLst>
                  <a:gd name="textAreaLeft" fmla="*/ 4952520 w 9906120"/>
                  <a:gd name="textAreaRight" fmla="*/ 9905760 w 9906120"/>
                  <a:gd name="textAreaTop" fmla="*/ 0 h 5334120"/>
                  <a:gd name="textAreaBottom" fmla="*/ 2666880 h 53341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0220000">
                <a:off x="3049200" y="1677960"/>
                <a:ext cx="22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ejorative manifo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5410080" y="1447920"/>
                  <a:ext cx="182880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743200" y="5105520"/>
                <a:ext cx="5700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/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/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sub/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κ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-184320" y="6095880"/>
            <a:ext cx="116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onotype Corsiva"/>
              </a:rPr>
              <a:t>Again, the problem becomes </a:t>
            </a:r>
            <a:r>
              <a:rPr b="0" lang="en-GB" sz="2800" spc="-1" strike="noStrike">
                <a:solidFill>
                  <a:srgbClr val="0000cc"/>
                </a:solidFill>
                <a:latin typeface="Monotype Corsiva"/>
              </a:rPr>
              <a:t>well-posed</a:t>
            </a:r>
            <a:r>
              <a:rPr b="0" lang="en-GB" sz="2800" spc="-1" strike="noStrike">
                <a:solidFill>
                  <a:srgbClr val="000000"/>
                </a:solidFill>
                <a:latin typeface="Monotype Corsiva"/>
              </a:rPr>
              <a:t>, and often </a:t>
            </a:r>
            <a:r>
              <a:rPr b="0" lang="en-GB" sz="2800" spc="-1" strike="noStrike">
                <a:solidFill>
                  <a:srgbClr val="3333cc"/>
                </a:solidFill>
                <a:latin typeface="Monotype Corsiva"/>
              </a:rPr>
              <a:t>well-condition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7620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6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dur="indefinite" fill="hold">
                      <p:stCondLst>
                        <p:cond delay="indefinite"/>
                      </p:stCondLst>
                      <p:childTnLst>
                        <p:par>
                          <p:cTn id="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32720" y="762120"/>
            <a:ext cx="43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 Find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 = GC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, 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7640" y="15228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iven a polynomial pair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, 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838080"/>
            <a:ext cx="14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--- ill-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9400" y="1447920"/>
            <a:ext cx="8103240" cy="13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Reformulated probl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d a pai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, 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v, u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at is nearest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, 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.t. a constra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 the degree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 = GC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p, q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483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191680" y="2819520"/>
            <a:ext cx="7403400" cy="535680"/>
            <a:chOff x="2191680" y="2819520"/>
            <a:chExt cx="7403400" cy="535680"/>
          </a:xfrm>
        </p:grpSpPr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657600" y="2819520"/>
                  <a:ext cx="24382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59" name=""/>
            <p:cNvSpPr/>
            <p:nvPr/>
          </p:nvSpPr>
          <p:spPr>
            <a:xfrm>
              <a:off x="2191680" y="289548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Monotype Corsiva"/>
                </a:rPr>
                <a:t>Or, sol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65800" y="2895480"/>
              <a:ext cx="332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Monotype Corsiva"/>
                </a:rPr>
                <a:t>in least squares se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4920" y="3733920"/>
            <a:ext cx="3809880" cy="380880"/>
            <a:chOff x="304920" y="3733920"/>
            <a:chExt cx="3809880" cy="380880"/>
          </a:xfrm>
        </p:grpSpPr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04920" y="3733920"/>
                  <a:ext cx="1600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3" name=""/>
            <p:cNvSpPr/>
            <p:nvPr/>
          </p:nvSpPr>
          <p:spPr>
            <a:xfrm>
              <a:off x="1905480" y="37339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s full-rank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29000" y="380988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266360" y="3733920"/>
            <a:ext cx="28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dition number is fi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762120" y="4267080"/>
            <a:ext cx="8204760" cy="2492640"/>
            <a:chOff x="762120" y="4267080"/>
            <a:chExt cx="8204760" cy="2492640"/>
          </a:xfrm>
        </p:grpSpPr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762120" y="4952880"/>
                  <a:ext cx="7942320" cy="15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8" name=""/>
            <p:cNvSpPr/>
            <p:nvPr/>
          </p:nvSpPr>
          <p:spPr>
            <a:xfrm>
              <a:off x="4267800" y="4267080"/>
              <a:ext cx="469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he Gauss-Newton iteration locally conver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5334120" y="6400800"/>
                  <a:ext cx="228600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0,1,2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0" name=""/>
          <p:cNvSpPr/>
          <p:nvPr/>
        </p:nvSpPr>
        <p:spPr>
          <a:xfrm>
            <a:off x="8628480" y="65595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7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dur="indefinite" fill="hold">
                      <p:stCondLst>
                        <p:cond delay="indefinite"/>
                      </p:stCondLst>
                      <p:childTnLst>
                        <p:par>
                          <p:cTn id="8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7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dur="indefinite" fill="hold">
                      <p:stCondLst>
                        <p:cond delay="indefinite"/>
                      </p:stCondLst>
                      <p:childTnLst>
                        <p:par>
                          <p:cTn id="8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2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dur="indefinite" fill="hold">
                      <p:stCondLst>
                        <p:cond delay="indefinite"/>
                      </p:stCondLst>
                      <p:childTnLst>
                        <p:par>
                          <p:cTn id="8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dur="indefinite" fill="hold">
                      <p:stCondLst>
                        <p:cond delay="indefinite"/>
                      </p:stCondLst>
                      <p:childTnLst>
                        <p:par>
                          <p:cTn id="8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dur="indefinite" fill="hold">
                      <p:stCondLst>
                        <p:cond delay="indefinite"/>
                      </p:stCondLst>
                      <p:childTnLst>
                        <p:par>
                          <p:cTn id="8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1" dur="500" fill="hold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dur="indefinite" fill="hold">
                      <p:stCondLst>
                        <p:cond delay="indefinite"/>
                      </p:stCondLst>
                      <p:childTnLst>
                        <p:par>
                          <p:cTn id="8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6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74640" y="152280"/>
            <a:ext cx="75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The ques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 How to determine the GC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27360" y="914400"/>
            <a:ext cx="4392360" cy="492120"/>
            <a:chOff x="927360" y="914400"/>
            <a:chExt cx="4392360" cy="492120"/>
          </a:xfrm>
        </p:grpSpPr>
        <p:sp>
          <p:nvSpPr>
            <p:cNvPr id="573" name=""/>
            <p:cNvSpPr/>
            <p:nvPr/>
          </p:nvSpPr>
          <p:spPr>
            <a:xfrm>
              <a:off x="927360" y="9144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2057400" y="914400"/>
                  <a:ext cx="13874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≈</m:t>
                      </m:r>
                      <m:r>
                        <m:t xml:space="preserve">u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>
                  <a:off x="3962520" y="990720"/>
                  <a:ext cx="13572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≈</m:t>
                      </m:r>
                      <m:r>
                        <m:t xml:space="preserve">u</m:t>
                      </m:r>
                      <m:r>
                        <m:t xml:space="preserve">⋅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6" name=""/>
          <p:cNvGrpSpPr/>
          <p:nvPr/>
        </p:nvGrpSpPr>
        <p:grpSpPr>
          <a:xfrm>
            <a:off x="1005120" y="1600200"/>
            <a:ext cx="6578280" cy="1108080"/>
            <a:chOff x="1005120" y="1600200"/>
            <a:chExt cx="6578280" cy="1108080"/>
          </a:xfrm>
        </p:grpSpPr>
        <p:sp>
          <p:nvSpPr>
            <p:cNvPr id="577" name=""/>
            <p:cNvSpPr/>
            <p:nvPr/>
          </p:nvSpPr>
          <p:spPr>
            <a:xfrm>
              <a:off x="1005120" y="194004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8" name=""/>
                <p:cNvSpPr txBox="1"/>
                <p:nvPr/>
              </p:nvSpPr>
              <p:spPr>
                <a:xfrm>
                  <a:off x="4130640" y="1908000"/>
                  <a:ext cx="3452760" cy="49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w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⋅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  <m:r>
                        <m:t xml:space="preserve">v</m:t>
                      </m:r>
                      <m:r>
                        <m:t xml:space="preserve">≈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179800" y="1600200"/>
                  <a:ext cx="1787400" cy="11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w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1692360" y="2895480"/>
                <a:ext cx="3481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g</m:t>
                                  </m:r>
                                </m:e>
                              </m:acc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w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1" name=""/>
          <p:cNvGrpSpPr/>
          <p:nvPr/>
        </p:nvGrpSpPr>
        <p:grpSpPr>
          <a:xfrm>
            <a:off x="838440" y="5334120"/>
            <a:ext cx="8186040" cy="1434960"/>
            <a:chOff x="838440" y="5334120"/>
            <a:chExt cx="8186040" cy="1434960"/>
          </a:xfrm>
        </p:grpSpPr>
        <p:sp>
          <p:nvSpPr>
            <p:cNvPr id="582" name=""/>
            <p:cNvSpPr/>
            <p:nvPr/>
          </p:nvSpPr>
          <p:spPr>
            <a:xfrm>
              <a:off x="1078920" y="5334120"/>
              <a:ext cx="6945840" cy="825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he GCD structure is determined by 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he </a:t>
              </a: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approximate rank</a:t>
              </a: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 of Sylvester matr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38440" y="6400800"/>
              <a:ext cx="81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A rank-revealing method and its application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, T. Y. Li and Z. Zeng, to appear: SI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225440" y="3048120"/>
            <a:ext cx="4620240" cy="2013840"/>
            <a:chOff x="1225440" y="3048120"/>
            <a:chExt cx="4620240" cy="2013840"/>
          </a:xfrm>
        </p:grpSpPr>
        <p:sp>
          <p:nvSpPr>
            <p:cNvPr id="585" name=""/>
            <p:cNvSpPr/>
            <p:nvPr/>
          </p:nvSpPr>
          <p:spPr>
            <a:xfrm>
              <a:off x="1225440" y="4114800"/>
              <a:ext cx="462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Monotype Corsiva"/>
                </a:rPr>
                <a:t>The Sylvester Resultant matr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Monotype Corsiva"/>
                </a:rPr>
                <a:t>is </a:t>
              </a:r>
              <a:r>
                <a:rPr b="0" lang="en-GB" sz="2400" spc="-1" strike="noStrike">
                  <a:solidFill>
                    <a:srgbClr val="3333cc"/>
                  </a:solidFill>
                  <a:latin typeface="Monotype Corsiva"/>
                </a:rPr>
                <a:t>approximately</a:t>
              </a:r>
              <a:r>
                <a:rPr b="0" lang="en-GB" sz="2400" spc="-1" strike="noStrike">
                  <a:solidFill>
                    <a:srgbClr val="000000"/>
                  </a:solidFill>
                  <a:latin typeface="Monotype Corsiva"/>
                </a:rPr>
                <a:t> rank-de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76520" y="3048120"/>
              <a:ext cx="228600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dur="indefinite" fill="hold">
                      <p:stCondLst>
                        <p:cond delay="indefinite"/>
                      </p:stCondLst>
                      <p:childTnLst>
                        <p:par>
                          <p:cTn id="8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3" dur="500" fill="hold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dur="indefinite" fill="hold">
                      <p:stCondLst>
                        <p:cond delay="indefinite"/>
                      </p:stCondLst>
                      <p:childTnLst>
                        <p:par>
                          <p:cTn id="8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8" dur="500" fill="hold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dur="indefinite" fill="hold">
                      <p:stCondLst>
                        <p:cond delay="indefinite"/>
                      </p:stCondLst>
                      <p:childTnLst>
                        <p:par>
                          <p:cTn id="8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3" dur="500" fill="hold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dur="indefinite" fill="hold">
                      <p:stCondLst>
                        <p:cond delay="indefinite"/>
                      </p:stCondLst>
                      <p:childTnLst>
                        <p:par>
                          <p:cTn id="8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4572000" y="3429000"/>
            <a:ext cx="4489560" cy="2804040"/>
            <a:chOff x="4572000" y="3429000"/>
            <a:chExt cx="4489560" cy="2804040"/>
          </a:xfrm>
        </p:grpSpPr>
        <p:sp>
          <p:nvSpPr>
            <p:cNvPr id="65" name=""/>
            <p:cNvSpPr/>
            <p:nvPr/>
          </p:nvSpPr>
          <p:spPr>
            <a:xfrm>
              <a:off x="4572000" y="4876920"/>
              <a:ext cx="824040" cy="485640"/>
            </a:xfrm>
            <a:prstGeom prst="rightArrow">
              <a:avLst>
                <a:gd name="adj1" fmla="val 50000"/>
                <a:gd name="adj2" fmla="val 4242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0080" y="3429000"/>
              <a:ext cx="3651480" cy="280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</a:rPr>
                <a:t>   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ttainable” roo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07275378757190310297334521591185287207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0.42234464878878716681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5198898160900915499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0.42234464878878716681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5198898160900915499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2.603418941910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394555618569229522806448999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2.603418941910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394555618569229522806448999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2.603418941910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394555618569229522806448999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710524183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74787328850360528234626914040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710524183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74787328850360528234626914040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710524183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74787328850360528234626914040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710524183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74787328850360528234626914040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3429000"/>
            <a:ext cx="4038480" cy="3017160"/>
            <a:chOff x="304920" y="3429000"/>
            <a:chExt cx="4038480" cy="3017160"/>
          </a:xfrm>
        </p:grpSpPr>
        <p:sp>
          <p:nvSpPr>
            <p:cNvPr id="68" name=""/>
            <p:cNvSpPr/>
            <p:nvPr/>
          </p:nvSpPr>
          <p:spPr>
            <a:xfrm>
              <a:off x="304920" y="3429000"/>
              <a:ext cx="3864240" cy="30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exact coeffici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237241354147433967691069524113374543999637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-21727618192764014977087878553429208549790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830179729987604812248045781001659181259882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-1752334476926802322877366696170346675905607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2287403830189369867494321512872014609897301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-1948248893292683656173812444881606761078561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1105000815739832160421030842346004516504397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-4145543840147470944087903517499885221389215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98905163685736613136597094378345149398634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-13599547819442102769888752033328388149419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  <a:ea typeface="Arial Unicode MS"/>
                </a:rPr>
                <a:t>8207431937814399229846170630271331302324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38480" y="4648320"/>
              <a:ext cx="304920" cy="946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Arial Narrow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Arial Narro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Arial Narrow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Arial Narrow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228600"/>
            <a:ext cx="3864240" cy="30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ct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23724135414743396769106952411337454399963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217276181927640149770878785534292085497902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83017972998760481224804578100165918125988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1752334476926802322877366696170346675905607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2287403830189369867494321512872014609897301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1948248893292683656173812444881606761078561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1105000815739832160421030842346004516504397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414554384014747094408790351749988522138921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98905163685736613136597094378345149398634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13599547819442102769888752033328388149419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820743193781439922984617063027133130232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43400" y="228600"/>
            <a:ext cx="4641840" cy="2804040"/>
            <a:chOff x="4343400" y="228600"/>
            <a:chExt cx="4641840" cy="2804040"/>
          </a:xfrm>
        </p:grpSpPr>
        <p:sp>
          <p:nvSpPr>
            <p:cNvPr id="72" name=""/>
            <p:cNvSpPr/>
            <p:nvPr/>
          </p:nvSpPr>
          <p:spPr>
            <a:xfrm>
              <a:off x="5334120" y="228600"/>
              <a:ext cx="3651120" cy="280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</a:rPr>
                <a:t>   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act roo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1.072753787571903102973345215911852872073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 Narrow"/>
                </a:rPr>
                <a:t>0.422344648788787166815198898160900915499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 Narrow"/>
                </a:rPr>
                <a:t>0.422344648788787166815198898160900915499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993366"/>
                  </a:solidFill>
                  <a:latin typeface="Arial Narrow"/>
                </a:rPr>
                <a:t>2.603418941910394555618569229522806448999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993366"/>
                  </a:solidFill>
                  <a:latin typeface="Arial Narrow"/>
                </a:rPr>
                <a:t>2.603418941910394555618569229522806448999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993366"/>
                  </a:solidFill>
                  <a:latin typeface="Arial Narrow"/>
                </a:rPr>
                <a:t>2.603418941910394555618569229522806448999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33cc"/>
                  </a:solidFill>
                  <a:latin typeface="Arial Narrow"/>
                </a:rPr>
                <a:t>1.710524183747873288503605282346269140403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33cc"/>
                  </a:solidFill>
                  <a:latin typeface="Arial Narrow"/>
                </a:rPr>
                <a:t>1.710524183747873288503605282346269140403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33cc"/>
                  </a:solidFill>
                  <a:latin typeface="Arial Narrow"/>
                </a:rPr>
                <a:t>1.710524183747873288503605282346269140403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33cc"/>
                  </a:solidFill>
                  <a:latin typeface="Arial Narrow"/>
                </a:rPr>
                <a:t>1.710524183747873288503605282346269140403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3400" y="17524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8470800" y="63309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70160" y="76320"/>
            <a:ext cx="41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 univariate polynomial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43480" y="914400"/>
            <a:ext cx="51901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Stage 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determine the GCD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28960" y="1600200"/>
            <a:ext cx="1904760" cy="1523880"/>
            <a:chOff x="228960" y="1600200"/>
            <a:chExt cx="1904760" cy="1523880"/>
          </a:xfrm>
        </p:grpSpPr>
        <p:sp>
          <p:nvSpPr>
            <p:cNvPr id="590" name=""/>
            <p:cNvSpPr/>
            <p:nvPr/>
          </p:nvSpPr>
          <p:spPr>
            <a:xfrm>
              <a:off x="228960" y="2127240"/>
              <a:ext cx="118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f,g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1384200" y="1600200"/>
              <a:ext cx="749520" cy="1523880"/>
              <a:chOff x="1384200" y="1600200"/>
              <a:chExt cx="749520" cy="1523880"/>
            </a:xfrm>
          </p:grpSpPr>
          <p:sp>
            <p:nvSpPr>
              <p:cNvPr id="592" name=""/>
              <p:cNvSpPr/>
              <p:nvPr/>
            </p:nvSpPr>
            <p:spPr>
              <a:xfrm>
                <a:off x="1384200" y="1600200"/>
                <a:ext cx="68400" cy="1523880"/>
              </a:xfrm>
              <a:custGeom>
                <a:avLst/>
                <a:gdLst>
                  <a:gd name="textAreaLeft" fmla="*/ 20160 w 68400"/>
                  <a:gd name="textAreaRight" fmla="*/ 68760 w 68400"/>
                  <a:gd name="textAreaTop" fmla="*/ 63360 h 1523880"/>
                  <a:gd name="textAreaBottom" fmla="*/ 1460520 h 152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2065320" y="1600200"/>
                <a:ext cx="68400" cy="1523880"/>
              </a:xfrm>
              <a:custGeom>
                <a:avLst/>
                <a:gdLst>
                  <a:gd name="textAreaLeft" fmla="*/ 20520 w 68400"/>
                  <a:gd name="textAreaRight" fmla="*/ 69120 w 68400"/>
                  <a:gd name="textAreaTop" fmla="*/ 63360 h 1523880"/>
                  <a:gd name="textAreaBottom" fmla="*/ 1460520 h 152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521000" y="1600200"/>
                <a:ext cx="1440" cy="134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4040" y="1717560"/>
                <a:ext cx="1440" cy="14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928880" y="1600200"/>
                <a:ext cx="144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7" name=""/>
          <p:cNvGrpSpPr/>
          <p:nvPr/>
        </p:nvGrpSpPr>
        <p:grpSpPr>
          <a:xfrm>
            <a:off x="2209680" y="1523880"/>
            <a:ext cx="1827000" cy="1676520"/>
            <a:chOff x="2209680" y="1523880"/>
            <a:chExt cx="1827000" cy="1676520"/>
          </a:xfrm>
        </p:grpSpPr>
        <p:grpSp>
          <p:nvGrpSpPr>
            <p:cNvPr id="598" name=""/>
            <p:cNvGrpSpPr/>
            <p:nvPr/>
          </p:nvGrpSpPr>
          <p:grpSpPr>
            <a:xfrm>
              <a:off x="2209680" y="2039760"/>
              <a:ext cx="962280" cy="398880"/>
              <a:chOff x="2209680" y="2039760"/>
              <a:chExt cx="962280" cy="398880"/>
            </a:xfrm>
          </p:grpSpPr>
          <p:sp>
            <p:nvSpPr>
              <p:cNvPr id="599" name=""/>
              <p:cNvSpPr/>
              <p:nvPr/>
            </p:nvSpPr>
            <p:spPr>
              <a:xfrm>
                <a:off x="2209680" y="2360520"/>
                <a:ext cx="962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84280" y="2039760"/>
                <a:ext cx="6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Q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3305160" y="1523880"/>
              <a:ext cx="731520" cy="1676520"/>
              <a:chOff x="3305160" y="1523880"/>
              <a:chExt cx="731520" cy="1676520"/>
            </a:xfrm>
          </p:grpSpPr>
          <p:sp>
            <p:nvSpPr>
              <p:cNvPr id="602" name=""/>
              <p:cNvSpPr/>
              <p:nvPr/>
            </p:nvSpPr>
            <p:spPr>
              <a:xfrm>
                <a:off x="3305160" y="1523880"/>
                <a:ext cx="66600" cy="1676520"/>
              </a:xfrm>
              <a:custGeom>
                <a:avLst/>
                <a:gdLst>
                  <a:gd name="textAreaLeft" fmla="*/ 19440 w 66600"/>
                  <a:gd name="textAreaRight" fmla="*/ 66960 w 66600"/>
                  <a:gd name="textAreaTop" fmla="*/ 69840 h 1676520"/>
                  <a:gd name="textAreaBottom" fmla="*/ 160668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3969720" y="1523880"/>
                <a:ext cx="66600" cy="1676520"/>
              </a:xfrm>
              <a:custGeom>
                <a:avLst/>
                <a:gdLst>
                  <a:gd name="textAreaLeft" fmla="*/ 19080 w 66600"/>
                  <a:gd name="textAreaRight" fmla="*/ 66600 w 66600"/>
                  <a:gd name="textAreaTop" fmla="*/ 69840 h 1676520"/>
                  <a:gd name="textAreaBottom" fmla="*/ 160668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3371040" y="1588320"/>
                <a:ext cx="600120" cy="5158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5" name=""/>
          <p:cNvGrpSpPr/>
          <p:nvPr/>
        </p:nvGrpSpPr>
        <p:grpSpPr>
          <a:xfrm>
            <a:off x="4343400" y="1523880"/>
            <a:ext cx="1913040" cy="1981440"/>
            <a:chOff x="4343400" y="1523880"/>
            <a:chExt cx="1913040" cy="1981440"/>
          </a:xfrm>
        </p:grpSpPr>
        <p:sp>
          <p:nvSpPr>
            <p:cNvPr id="606" name=""/>
            <p:cNvSpPr/>
            <p:nvPr/>
          </p:nvSpPr>
          <p:spPr>
            <a:xfrm flipV="1">
              <a:off x="4343400" y="2360160"/>
              <a:ext cx="838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43400" y="1981080"/>
              <a:ext cx="81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,g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240160" y="1523880"/>
              <a:ext cx="1016280" cy="1981440"/>
              <a:chOff x="5240160" y="1523880"/>
              <a:chExt cx="1016280" cy="1981440"/>
            </a:xfrm>
          </p:grpSpPr>
          <p:sp>
            <p:nvSpPr>
              <p:cNvPr id="609" name=""/>
              <p:cNvSpPr/>
              <p:nvPr/>
            </p:nvSpPr>
            <p:spPr>
              <a:xfrm>
                <a:off x="5240160" y="1523880"/>
                <a:ext cx="66960" cy="1981440"/>
              </a:xfrm>
              <a:custGeom>
                <a:avLst/>
                <a:gdLst>
                  <a:gd name="textAreaLeft" fmla="*/ 19440 w 66960"/>
                  <a:gd name="textAreaRight" fmla="*/ 67320 w 66960"/>
                  <a:gd name="textAreaTop" fmla="*/ 82440 h 1981440"/>
                  <a:gd name="textAreaBottom" fmla="*/ 1899000 h 19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5308560" y="1588320"/>
                <a:ext cx="596880" cy="5288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985000" y="1919160"/>
                <a:ext cx="1440" cy="158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21440" y="1787400"/>
                <a:ext cx="1440" cy="171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6188040" y="1523880"/>
                <a:ext cx="68400" cy="1981440"/>
              </a:xfrm>
              <a:custGeom>
                <a:avLst/>
                <a:gdLst>
                  <a:gd name="textAreaLeft" fmla="*/ 20520 w 68400"/>
                  <a:gd name="textAreaRight" fmla="*/ 69120 w 68400"/>
                  <a:gd name="textAreaTop" fmla="*/ 82440 h 1981440"/>
                  <a:gd name="textAreaBottom" fmla="*/ 1899000 h 19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1829880" y="1523880"/>
            <a:ext cx="6780240" cy="2533680"/>
            <a:chOff x="1829880" y="1523880"/>
            <a:chExt cx="6780240" cy="2533680"/>
          </a:xfrm>
        </p:grpSpPr>
        <p:grpSp>
          <p:nvGrpSpPr>
            <p:cNvPr id="615" name=""/>
            <p:cNvGrpSpPr/>
            <p:nvPr/>
          </p:nvGrpSpPr>
          <p:grpSpPr>
            <a:xfrm>
              <a:off x="6629400" y="1523880"/>
              <a:ext cx="1980720" cy="1905120"/>
              <a:chOff x="6629400" y="1523880"/>
              <a:chExt cx="1980720" cy="190512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7526160" y="1523880"/>
                <a:ext cx="1083960" cy="1905120"/>
                <a:chOff x="7526160" y="1523880"/>
                <a:chExt cx="1083960" cy="1905120"/>
              </a:xfrm>
            </p:grpSpPr>
            <p:sp>
              <p:nvSpPr>
                <p:cNvPr id="617" name=""/>
                <p:cNvSpPr/>
                <p:nvPr/>
              </p:nvSpPr>
              <p:spPr>
                <a:xfrm flipH="1">
                  <a:off x="8541720" y="1523880"/>
                  <a:ext cx="68040" cy="1905120"/>
                </a:xfrm>
                <a:custGeom>
                  <a:avLst/>
                  <a:gdLst>
                    <a:gd name="textAreaLeft" fmla="*/ 19800 w 68040"/>
                    <a:gd name="textAreaRight" fmla="*/ 68400 w 68040"/>
                    <a:gd name="textAreaTop" fmla="*/ 79200 h 1905120"/>
                    <a:gd name="textAreaBottom" fmla="*/ 1825920 h 1905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526160" y="1523880"/>
                  <a:ext cx="68400" cy="1905120"/>
                </a:xfrm>
                <a:custGeom>
                  <a:avLst/>
                  <a:gdLst>
                    <a:gd name="textAreaLeft" fmla="*/ 20160 w 68400"/>
                    <a:gd name="textAreaRight" fmla="*/ 68760 w 68400"/>
                    <a:gd name="textAreaTop" fmla="*/ 79200 h 1905120"/>
                    <a:gd name="textAreaBottom" fmla="*/ 1825920 h 1905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flipV="1">
                  <a:off x="7594560" y="1587600"/>
                  <a:ext cx="881280" cy="76176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629400" y="1968480"/>
                <a:ext cx="762120" cy="398880"/>
                <a:chOff x="6629400" y="1968480"/>
                <a:chExt cx="762120" cy="3988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6629400" y="2349360"/>
                  <a:ext cx="76212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629400" y="1968480"/>
                  <a:ext cx="598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Q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3" name=""/>
            <p:cNvSpPr/>
            <p:nvPr/>
          </p:nvSpPr>
          <p:spPr>
            <a:xfrm>
              <a:off x="1829880" y="3689280"/>
              <a:ext cx="610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until finding the first rank-deficient Sylvester submatr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77320" y="4194000"/>
            <a:ext cx="6496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Stage I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determine the GCD factor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u, v, w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505520" y="4876920"/>
            <a:ext cx="4871160" cy="1221480"/>
            <a:chOff x="1505520" y="4876920"/>
            <a:chExt cx="4871160" cy="1221480"/>
          </a:xfrm>
        </p:grpSpPr>
        <p:sp>
          <p:nvSpPr>
            <p:cNvPr id="626" name=""/>
            <p:cNvSpPr/>
            <p:nvPr/>
          </p:nvSpPr>
          <p:spPr>
            <a:xfrm>
              <a:off x="1505520" y="4908600"/>
              <a:ext cx="230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by formula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7" name=""/>
                <p:cNvSpPr txBox="1"/>
                <p:nvPr/>
              </p:nvSpPr>
              <p:spPr>
                <a:xfrm>
                  <a:off x="4130640" y="4876920"/>
                  <a:ext cx="182880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"/>
            <p:cNvSpPr/>
            <p:nvPr/>
          </p:nvSpPr>
          <p:spPr>
            <a:xfrm>
              <a:off x="1621080" y="5638680"/>
              <a:ext cx="47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and the Gauss-Newton it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832356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39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dur="indefinite" fill="hold">
                      <p:stCondLst>
                        <p:cond delay="indefinite"/>
                      </p:stCondLst>
                      <p:childTnLst>
                        <p:par>
                          <p:cTn id="8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 fill="hold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dur="indefinite" fill="hold">
                      <p:stCondLst>
                        <p:cond delay="indefinite"/>
                      </p:stCondLst>
                      <p:childTnLst>
                        <p:par>
                          <p:cTn id="8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dur="indefinite" fill="hold">
                      <p:stCondLst>
                        <p:cond delay="indefinite"/>
                      </p:stCondLst>
                      <p:childTnLst>
                        <p:par>
                          <p:cTn id="8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dur="indefinite" fill="hold">
                      <p:stCondLst>
                        <p:cond delay="indefinite"/>
                      </p:stCondLst>
                      <p:childTnLst>
                        <p:par>
                          <p:cTn id="8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dur="indefinite" fill="hold">
                      <p:stCondLst>
                        <p:cond delay="indefinite"/>
                      </p:stCondLst>
                      <p:childTnLst>
                        <p:par>
                          <p:cTn id="8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dur="indefinite" fill="hold">
                      <p:stCondLst>
                        <p:cond delay="indefinite"/>
                      </p:stCondLst>
                      <p:childTnLst>
                        <p:par>
                          <p:cTn id="8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 fill="hold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dur="indefinite" fill="hold">
                      <p:stCondLst>
                        <p:cond delay="indefinite"/>
                      </p:stCondLst>
                      <p:childTnLst>
                        <p:par>
                          <p:cTn id="9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6" dur="500" fill="hold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81320" y="79200"/>
            <a:ext cx="51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 multivariate polynomial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, 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49600" y="914400"/>
            <a:ext cx="533664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Stage 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determine the GCD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77320" y="4194000"/>
            <a:ext cx="6496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Stage I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determine the GCD factor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u, v, w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89680" y="4876920"/>
            <a:ext cx="4871160" cy="1221480"/>
            <a:chOff x="1489680" y="4876920"/>
            <a:chExt cx="4871160" cy="1221480"/>
          </a:xfrm>
        </p:grpSpPr>
        <p:sp>
          <p:nvSpPr>
            <p:cNvPr id="634" name=""/>
            <p:cNvSpPr/>
            <p:nvPr/>
          </p:nvSpPr>
          <p:spPr>
            <a:xfrm>
              <a:off x="1489680" y="4908600"/>
              <a:ext cx="230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by formula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5" name=""/>
                <p:cNvSpPr txBox="1"/>
                <p:nvPr/>
              </p:nvSpPr>
              <p:spPr>
                <a:xfrm>
                  <a:off x="4114800" y="4876920"/>
                  <a:ext cx="182880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36" name=""/>
            <p:cNvSpPr/>
            <p:nvPr/>
          </p:nvSpPr>
          <p:spPr>
            <a:xfrm>
              <a:off x="1605240" y="5638680"/>
              <a:ext cx="47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and the Gauss-Newton it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332000" y="1905120"/>
            <a:ext cx="65480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y applying the univariate GCD on each variabl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ith other variable randomly fix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24760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0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dur="indefinite" fill="hold">
                      <p:stCondLst>
                        <p:cond delay="indefinite"/>
                      </p:stCondLst>
                      <p:childTnLst>
                        <p:par>
                          <p:cTn id="9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 fill="hold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dur="indefinite" fill="hold">
                      <p:stCondLst>
                        <p:cond delay="indefinite"/>
                      </p:stCondLst>
                      <p:childTnLst>
                        <p:par>
                          <p:cTn id="9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 fill="hold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dur="indefinite" fill="hold">
                      <p:stCondLst>
                        <p:cond delay="indefinite"/>
                      </p:stCondLst>
                      <p:childTnLst>
                        <p:par>
                          <p:cTn id="9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3" dur="500" fill="hold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2560" y="22860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 to multiple root compu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208880" y="1066680"/>
            <a:ext cx="6487920" cy="3584160"/>
            <a:chOff x="1208880" y="1066680"/>
            <a:chExt cx="6487920" cy="3584160"/>
          </a:xfrm>
        </p:grpSpPr>
        <p:sp>
          <p:nvSpPr>
            <p:cNvPr id="641" name=""/>
            <p:cNvSpPr/>
            <p:nvPr/>
          </p:nvSpPr>
          <p:spPr>
            <a:xfrm>
              <a:off x="1267560" y="1066680"/>
              <a:ext cx="6429240" cy="4597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Stage I</a:t>
              </a: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: determine the multiplicity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08880" y="4191120"/>
              <a:ext cx="502128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Stage II</a:t>
              </a: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: determine multiple roo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483560" y="4933800"/>
            <a:ext cx="4473360" cy="1159560"/>
            <a:chOff x="1483560" y="4933800"/>
            <a:chExt cx="4473360" cy="1159560"/>
          </a:xfrm>
        </p:grpSpPr>
        <p:sp>
          <p:nvSpPr>
            <p:cNvPr id="644" name=""/>
            <p:cNvSpPr/>
            <p:nvPr/>
          </p:nvSpPr>
          <p:spPr>
            <a:xfrm>
              <a:off x="1483560" y="4933800"/>
              <a:ext cx="212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Verdana"/>
                </a:rPr>
                <a:t>by formulat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5" name=""/>
                <p:cNvSpPr txBox="1"/>
                <p:nvPr/>
              </p:nvSpPr>
              <p:spPr>
                <a:xfrm>
                  <a:off x="4419720" y="4952880"/>
                  <a:ext cx="122868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46" name=""/>
            <p:cNvSpPr/>
            <p:nvPr/>
          </p:nvSpPr>
          <p:spPr>
            <a:xfrm>
              <a:off x="1589760" y="5664240"/>
              <a:ext cx="4367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Verdana"/>
                </a:rPr>
                <a:t>and the Gauss-Newton iter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582560" y="2057400"/>
            <a:ext cx="42804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y squarefree factorization of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a recursive GCD-fi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24760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1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dur="indefinite" fill="hold">
                      <p:stCondLst>
                        <p:cond delay="indefinite"/>
                      </p:stCondLst>
                      <p:childTnLst>
                        <p:par>
                          <p:cTn id="9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0" dur="500" fill="hold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dur="indefinite" fill="hold">
                      <p:stCondLst>
                        <p:cond delay="indefinite"/>
                      </p:stCondLst>
                      <p:childTnLst>
                        <p:par>
                          <p:cTn id="9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dur="indefinite" fill="hold">
                      <p:stCondLst>
                        <p:cond delay="indefinite"/>
                      </p:stCondLst>
                      <p:childTnLst>
                        <p:par>
                          <p:cTn id="9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819520" y="304920"/>
                <a:ext cx="38034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607680" y="3049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2080" y="1447920"/>
            <a:ext cx="51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  (inexact ) coefficients in machine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920" y="2819520"/>
            <a:ext cx="36036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ge I resul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he backward error:       6.05 x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 Narrow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uted roots                     multipli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000000000</a:t>
            </a:r>
            <a:r>
              <a:rPr b="1" lang="en-GB" sz="1800" spc="-1" strike="noStrike">
                <a:solidFill>
                  <a:srgbClr val="3333cc"/>
                </a:solidFill>
                <a:latin typeface="Arial Narrow"/>
              </a:rPr>
              <a:t>0</a:t>
            </a: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00</a:t>
            </a:r>
            <a:r>
              <a:rPr b="0" lang="en-GB" sz="1800" spc="-1" strike="noStrike">
                <a:solidFill>
                  <a:srgbClr val="969696"/>
                </a:solidFill>
                <a:latin typeface="Arial Narrow"/>
              </a:rPr>
              <a:t>353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0000000000</a:t>
            </a:r>
            <a:r>
              <a:rPr b="0" lang="en-GB" sz="1800" spc="-1" strike="noStrike">
                <a:solidFill>
                  <a:srgbClr val="969696"/>
                </a:solidFill>
                <a:latin typeface="Arial Narrow"/>
              </a:rPr>
              <a:t>30904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000000000</a:t>
            </a:r>
            <a:r>
              <a:rPr b="0" lang="en-GB" sz="1800" spc="-1" strike="noStrike">
                <a:solidFill>
                  <a:srgbClr val="969696"/>
                </a:solidFill>
                <a:latin typeface="Arial Narrow"/>
              </a:rPr>
              <a:t>176196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000000000</a:t>
            </a:r>
            <a:r>
              <a:rPr b="0" lang="en-GB" sz="1800" spc="-1" strike="noStrike">
                <a:solidFill>
                  <a:srgbClr val="969696"/>
                </a:solidFill>
                <a:latin typeface="Arial Narrow"/>
              </a:rPr>
              <a:t>109542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91120" y="2819520"/>
            <a:ext cx="4518000" cy="3385800"/>
            <a:chOff x="4191120" y="2819520"/>
            <a:chExt cx="4518000" cy="3385800"/>
          </a:xfrm>
        </p:grpSpPr>
        <p:sp>
          <p:nvSpPr>
            <p:cNvPr id="654" name=""/>
            <p:cNvSpPr/>
            <p:nvPr/>
          </p:nvSpPr>
          <p:spPr>
            <a:xfrm>
              <a:off x="5105520" y="2819520"/>
              <a:ext cx="360360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Stage II result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The backward error:       6.16 x 10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 Narrow"/>
                </a:rPr>
                <a:t>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Computed roots                     multiplic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1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000000000</a:t>
              </a:r>
              <a:r>
                <a:rPr b="1" lang="en-GB" sz="1800" spc="-1" strike="noStrike">
                  <a:solidFill>
                    <a:srgbClr val="3333cc"/>
                  </a:solidFill>
                  <a:latin typeface="Arial Narrow"/>
                </a:rPr>
                <a:t>0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0000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2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99999999999999</a:t>
              </a:r>
              <a:r>
                <a:rPr b="0" lang="en-GB" sz="1800" spc="-1" strike="noStrike">
                  <a:solidFill>
                    <a:srgbClr val="969696"/>
                  </a:solidFill>
                  <a:latin typeface="Arial Narrow"/>
                </a:rPr>
                <a:t>7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3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0000000000000</a:t>
              </a:r>
              <a:r>
                <a:rPr b="0" lang="en-GB" sz="1800" spc="-1" strike="noStrike">
                  <a:solidFill>
                    <a:srgbClr val="969696"/>
                  </a:solidFill>
                  <a:latin typeface="Arial Narrow"/>
                </a:rPr>
                <a:t>11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3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9999999999999</a:t>
              </a:r>
              <a:r>
                <a:rPr b="0" lang="en-GB" sz="1800" spc="-1" strike="noStrike">
                  <a:solidFill>
                    <a:srgbClr val="969696"/>
                  </a:solidFill>
                  <a:latin typeface="Arial Narrow"/>
                </a:rPr>
                <a:t>85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91120" y="4343400"/>
              <a:ext cx="747720" cy="485640"/>
            </a:xfrm>
            <a:custGeom>
              <a:avLst/>
              <a:gdLst>
                <a:gd name="textAreaLeft" fmla="*/ 116640 w 747720"/>
                <a:gd name="textAreaRight" fmla="*/ 654480 w 7477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819520" cy="1479600"/>
          </a:xfrm>
          <a:prstGeom prst="rect">
            <a:avLst/>
          </a:prstGeom>
          <a:ln w="0">
            <a:noFill/>
          </a:ln>
        </p:spPr>
      </p:pic>
      <p:grpSp>
        <p:nvGrpSpPr>
          <p:cNvPr id="657" name=""/>
          <p:cNvGrpSpPr/>
          <p:nvPr/>
        </p:nvGrpSpPr>
        <p:grpSpPr>
          <a:xfrm>
            <a:off x="6170760" y="990720"/>
            <a:ext cx="2746080" cy="1600200"/>
            <a:chOff x="6170760" y="990720"/>
            <a:chExt cx="2746080" cy="1600200"/>
          </a:xfrm>
        </p:grpSpPr>
        <p:sp>
          <p:nvSpPr>
            <p:cNvPr id="658" name=""/>
            <p:cNvSpPr/>
            <p:nvPr/>
          </p:nvSpPr>
          <p:spPr>
            <a:xfrm>
              <a:off x="6248520" y="990720"/>
              <a:ext cx="266688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170760" y="990720"/>
              <a:ext cx="274608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839988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2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dur="indefinite" fill="hold">
                      <p:stCondLst>
                        <p:cond delay="indefinite"/>
                      </p:stCondLst>
                      <p:childTnLst>
                        <p:par>
                          <p:cTn id="9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9" dur="500" fill="hold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dur="indefinite" fill="hold">
                      <p:stCondLst>
                        <p:cond delay="indefinite"/>
                      </p:stCondLst>
                      <p:childTnLst>
                        <p:par>
                          <p:cTn id="9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 fill="hold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dur="indefinite" fill="hold">
                      <p:stCondLst>
                        <p:cond delay="indefinite"/>
                      </p:stCondLst>
                      <p:childTnLst>
                        <p:par>
                          <p:cTn id="9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 fill="hold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dur="indefinite" fill="hold">
                      <p:stCondLst>
                        <p:cond delay="indefinite"/>
                      </p:stCondLst>
                      <p:childTnLst>
                        <p:par>
                          <p:cTn id="9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 fill="hold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70600" y="228600"/>
            <a:ext cx="71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A two-stage strategy for removing ill-posedn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6280" y="2209680"/>
            <a:ext cx="81525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 I: 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termine the </a:t>
            </a:r>
            <a:r>
              <a:rPr b="0" lang="en-GB" sz="2200" spc="-1" strike="noStrike">
                <a:solidFill>
                  <a:srgbClr val="3333cc"/>
                </a:solidFill>
                <a:latin typeface="Verdana"/>
              </a:rPr>
              <a:t>structu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f the desired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is structure determines a pejorative manifold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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its the struct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0160" y="411480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 II: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ormulate and solve a least squares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675720" y="990720"/>
            <a:ext cx="7706520" cy="824760"/>
            <a:chOff x="675720" y="990720"/>
            <a:chExt cx="7706520" cy="824760"/>
          </a:xfrm>
        </p:grpSpPr>
        <p:sp>
          <p:nvSpPr>
            <p:cNvPr id="665" name=""/>
            <p:cNvSpPr/>
            <p:nvPr/>
          </p:nvSpPr>
          <p:spPr>
            <a:xfrm>
              <a:off x="675720" y="990720"/>
              <a:ext cx="220140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For a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</a:rPr>
                <a:t>(data ----&gt; solu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3886200" y="1066680"/>
              <a:ext cx="190512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6469920" y="990720"/>
              <a:ext cx="191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with data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015640" y="4572000"/>
            <a:ext cx="4410720" cy="814320"/>
            <a:chOff x="2015640" y="4572000"/>
            <a:chExt cx="4410720" cy="81432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3886200" y="4572000"/>
                  <a:ext cx="254016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2015640" y="474984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inim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2362320" y="5106960"/>
                  <a:ext cx="761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∈</m:t>
                      </m:r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2" name=""/>
          <p:cNvSpPr/>
          <p:nvPr/>
        </p:nvSpPr>
        <p:spPr>
          <a:xfrm>
            <a:off x="1973880" y="536580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the Gauss-Newton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47620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3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dur="indefinite" fill="hold">
                      <p:stCondLst>
                        <p:cond delay="indefinite"/>
                      </p:stCondLst>
                      <p:childTnLst>
                        <p:par>
                          <p:cTn id="9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dur="indefinite" fill="hold">
                      <p:stCondLst>
                        <p:cond delay="indefinite"/>
                      </p:stCondLst>
                      <p:childTnLst>
                        <p:par>
                          <p:cTn id="9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 fill="hold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dur="indefinite" fill="hold">
                      <p:stCondLst>
                        <p:cond delay="indefinite"/>
                      </p:stCondLst>
                      <p:childTnLst>
                        <p:par>
                          <p:cTn id="9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 fill="hold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dur="indefinite" fill="hold">
                      <p:stCondLst>
                        <p:cond delay="indefinite"/>
                      </p:stCondLst>
                      <p:childTnLst>
                        <p:par>
                          <p:cTn id="9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 fill="hold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dur="indefinite" fill="hold">
                      <p:stCondLst>
                        <p:cond delay="indefinite"/>
                      </p:stCondLst>
                      <p:childTnLst>
                        <p:par>
                          <p:cTn id="9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618120" y="1843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The two-stage approach lead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5200" y="1828800"/>
            <a:ext cx="60829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ank-revealing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 rank-revealing method and its applications,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. Y. Li and Z. Ze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35200" y="2819520"/>
            <a:ext cx="70005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nivariate GCD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he approximate GCD of inexact polynomials. Part I: a univariate algorith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Z. Ze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35200" y="3962520"/>
            <a:ext cx="7224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ultivariate GCD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he approximate GCD of inexact polynomials. Part II: a multivariate algorith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Z. Zeng and B. H. Day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5105520"/>
            <a:ext cx="5487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ultiple root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mputing multiple roots of inexact polynomials,  Z. Ze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Distinguished Paper Award, ISSAC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461240" y="76212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ackbox-type algorithms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32356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4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dur="indefinite" fill="hold">
                      <p:stCondLst>
                        <p:cond delay="indefinite"/>
                      </p:stCondLst>
                      <p:childTnLst>
                        <p:par>
                          <p:cTn id="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 fill="hold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dur="indefinite" fill="hold">
                      <p:stCondLst>
                        <p:cond delay="indefinite"/>
                      </p:stCondLst>
                      <p:childTnLst>
                        <p:par>
                          <p:cTn id="10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 fill="hold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dur="indefinite" fill="hold">
                      <p:stCondLst>
                        <p:cond delay="indefinite"/>
                      </p:stCondLst>
                      <p:childTnLst>
                        <p:par>
                          <p:cTn id="10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 fill="hold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dur="indefinite" fill="hold">
                      <p:stCondLst>
                        <p:cond delay="indefinite"/>
                      </p:stCondLst>
                      <p:childTnLst>
                        <p:par>
                          <p:cTn id="10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 fill="hold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718200" y="152280"/>
            <a:ext cx="70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uting the approximate JCF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joint work with T. Y. 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7200" y="1600200"/>
            <a:ext cx="1867680" cy="97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Given A, find X, J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AX = X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811200" y="2209680"/>
            <a:ext cx="2238120" cy="2687760"/>
            <a:chOff x="6811200" y="2209680"/>
            <a:chExt cx="2238120" cy="2687760"/>
          </a:xfrm>
        </p:grpSpPr>
        <p:sp>
          <p:nvSpPr>
            <p:cNvPr id="684" name=""/>
            <p:cNvSpPr/>
            <p:nvPr/>
          </p:nvSpPr>
          <p:spPr>
            <a:xfrm>
              <a:off x="7179120" y="2209680"/>
              <a:ext cx="161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JCF structur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[3,2,2,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11200" y="4011480"/>
              <a:ext cx="2238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staircase structur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[4,3,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200400" y="1219320"/>
            <a:ext cx="3848040" cy="2057400"/>
            <a:chOff x="3200400" y="1219320"/>
            <a:chExt cx="3848040" cy="2057400"/>
          </a:xfrm>
        </p:grpSpPr>
        <p:grpSp>
          <p:nvGrpSpPr>
            <p:cNvPr id="687" name=""/>
            <p:cNvGrpSpPr/>
            <p:nvPr/>
          </p:nvGrpSpPr>
          <p:grpSpPr>
            <a:xfrm>
              <a:off x="3876840" y="1219320"/>
              <a:ext cx="3171600" cy="2057400"/>
              <a:chOff x="3876840" y="1219320"/>
              <a:chExt cx="3171600" cy="2057400"/>
            </a:xfrm>
          </p:grpSpPr>
          <p:sp>
            <p:nvSpPr>
              <p:cNvPr id="688" name=""/>
              <p:cNvSpPr/>
              <p:nvPr/>
            </p:nvSpPr>
            <p:spPr>
              <a:xfrm>
                <a:off x="4114800" y="1219320"/>
                <a:ext cx="76320" cy="2057400"/>
              </a:xfrm>
              <a:custGeom>
                <a:avLst/>
                <a:gdLst>
                  <a:gd name="textAreaLeft" fmla="*/ 22320 w 76320"/>
                  <a:gd name="textAreaRight" fmla="*/ 76320 w 76320"/>
                  <a:gd name="textAreaTop" fmla="*/ 85680 h 2057400"/>
                  <a:gd name="textAreaBottom" fmla="*/ 1971720 h 20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90200" y="2438280"/>
                <a:ext cx="1384560" cy="459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876840" y="1219320"/>
                <a:ext cx="1582560" cy="6415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1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    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680720" y="1905120"/>
                <a:ext cx="1384560" cy="459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869440" y="2971800"/>
                <a:ext cx="1179000" cy="276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629400" y="1219320"/>
                <a:ext cx="76320" cy="2057400"/>
              </a:xfrm>
              <a:custGeom>
                <a:avLst/>
                <a:gdLst>
                  <a:gd name="textAreaLeft" fmla="*/ 0 w 76320"/>
                  <a:gd name="textAreaRight" fmla="*/ 53640 w 76320"/>
                  <a:gd name="textAreaTop" fmla="*/ 85680 h 2057400"/>
                  <a:gd name="textAreaBottom" fmla="*/ 1971720 h 20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200400" y="20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Verdana"/>
                </a:rPr>
                <a:t>J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058920" y="4038480"/>
            <a:ext cx="3608280" cy="1800720"/>
            <a:chOff x="3058920" y="4038480"/>
            <a:chExt cx="3608280" cy="1800720"/>
          </a:xfrm>
        </p:grpSpPr>
        <p:grpSp>
          <p:nvGrpSpPr>
            <p:cNvPr id="696" name=""/>
            <p:cNvGrpSpPr/>
            <p:nvPr/>
          </p:nvGrpSpPr>
          <p:grpSpPr>
            <a:xfrm>
              <a:off x="3141360" y="4038480"/>
              <a:ext cx="3525840" cy="1800720"/>
              <a:chOff x="3141360" y="4038480"/>
              <a:chExt cx="3525840" cy="1800720"/>
            </a:xfrm>
          </p:grpSpPr>
          <p:sp>
            <p:nvSpPr>
              <p:cNvPr id="697" name=""/>
              <p:cNvSpPr/>
              <p:nvPr/>
            </p:nvSpPr>
            <p:spPr>
              <a:xfrm>
                <a:off x="3809880" y="4038480"/>
                <a:ext cx="76320" cy="1676520"/>
              </a:xfrm>
              <a:custGeom>
                <a:avLst/>
                <a:gdLst>
                  <a:gd name="textAreaLeft" fmla="*/ 22320 w 76320"/>
                  <a:gd name="textAreaRight" fmla="*/ 76320 w 76320"/>
                  <a:gd name="textAreaTop" fmla="*/ 69840 h 1676520"/>
                  <a:gd name="textAreaBottom" fmla="*/ 160668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41360" y="4038480"/>
                <a:ext cx="270288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    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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88200" y="5562720"/>
                <a:ext cx="117900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48520" y="4038480"/>
                <a:ext cx="75960" cy="1752840"/>
              </a:xfrm>
              <a:custGeom>
                <a:avLst/>
                <a:gdLst>
                  <a:gd name="textAreaLeft" fmla="*/ 0 w 75960"/>
                  <a:gd name="textAreaRight" fmla="*/ 53280 w 75960"/>
                  <a:gd name="textAreaTop" fmla="*/ 72720 h 1752840"/>
                  <a:gd name="textAreaBottom" fmla="*/ 1680120 h 175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29200" y="4876920"/>
                <a:ext cx="91440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Verdana"/>
                  </a:rPr>
                  <a:t>          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77840" y="4038480"/>
                <a:ext cx="1593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   +  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   +  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   +  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457200"/>
                    <a:tab algn="l" pos="1371600"/>
                    <a:tab algn="l" pos="2286000"/>
                    <a:tab algn="l" pos="3200400"/>
                    <a:tab algn="l" pos="4114800"/>
                    <a:tab algn="l" pos="5029200"/>
                    <a:tab algn="l" pos="5943600"/>
                    <a:tab algn="l" pos="6858000"/>
                    <a:tab algn="l" pos="7772400"/>
                    <a:tab algn="l" pos="8686800"/>
                    <a:tab algn="l" pos="96012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   +  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967000" y="4038480"/>
                <a:ext cx="2674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67000" y="4876920"/>
                <a:ext cx="267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Verdana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058920" y="4495680"/>
              <a:ext cx="6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Verdana"/>
                </a:rPr>
                <a:t>S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50080" y="3886200"/>
            <a:ext cx="1898280" cy="9774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Given A, find U,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AU =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1712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5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dur="indefinite" fill="hold">
                      <p:stCondLst>
                        <p:cond delay="indefinite"/>
                      </p:stCondLst>
                      <p:childTnLst>
                        <p:par>
                          <p:cTn id="10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dur="indefinite" fill="hold">
                      <p:stCondLst>
                        <p:cond delay="indefinite"/>
                      </p:stCondLst>
                      <p:childTnLst>
                        <p:par>
                          <p:cTn id="10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dur="indefinite" fill="hold">
                      <p:stCondLst>
                        <p:cond delay="indefinite"/>
                      </p:stCondLst>
                      <p:childTnLst>
                        <p:par>
                          <p:cTn id="10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dur="indefinite" fill="hold">
                      <p:stCondLst>
                        <p:cond delay="indefinite"/>
                      </p:stCondLst>
                      <p:childTnLst>
                        <p:par>
                          <p:cTn id="10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dur="indefinite" fill="hold">
                      <p:stCondLst>
                        <p:cond delay="indefinite"/>
                      </p:stCondLst>
                      <p:childTnLst>
                        <p:par>
                          <p:cTn id="10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536760" y="380880"/>
            <a:ext cx="7353000" cy="1572840"/>
            <a:chOff x="536760" y="380880"/>
            <a:chExt cx="7353000" cy="1572840"/>
          </a:xfrm>
        </p:grpSpPr>
        <p:sp>
          <p:nvSpPr>
            <p:cNvPr id="709" name=""/>
            <p:cNvSpPr/>
            <p:nvPr/>
          </p:nvSpPr>
          <p:spPr>
            <a:xfrm>
              <a:off x="3773880" y="380880"/>
              <a:ext cx="4115880" cy="1572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333399"/>
                  </a:solidFill>
                  <a:latin typeface="Verdana"/>
                </a:rPr>
                <a:t>Find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 U </a:t>
              </a:r>
              <a:r>
                <a:rPr b="0" i="1" lang="en-GB" sz="1800" spc="-1" strike="noStrike">
                  <a:solidFill>
                    <a:srgbClr val="333399"/>
                  </a:solidFill>
                  <a:latin typeface="Verdana"/>
                </a:rPr>
                <a:t>and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 S </a:t>
              </a:r>
              <a:r>
                <a:rPr b="0" i="1" lang="en-GB" sz="1800" spc="-1" strike="noStrike">
                  <a:solidFill>
                    <a:srgbClr val="333399"/>
                  </a:solidFill>
                  <a:latin typeface="Verdana"/>
                </a:rPr>
                <a:t>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333399"/>
                  </a:solidFill>
                  <a:latin typeface="Verdana"/>
                </a:rPr>
                <a:t>minimize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AU-U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333399"/>
                  </a:solidFill>
                  <a:latin typeface="Verdana"/>
                </a:rPr>
                <a:t>subject to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   U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U = I,  E U = 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S has a staircase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6760" y="45720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Reformulated problem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495720" y="106668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onotype Corsiva"/>
              </a:rPr>
              <a:t>(constraint minim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779040" y="2209680"/>
            <a:ext cx="7380720" cy="1008720"/>
            <a:chOff x="779040" y="2209680"/>
            <a:chExt cx="7380720" cy="1008720"/>
          </a:xfrm>
        </p:grpSpPr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5715000" y="2209680"/>
                  <a:ext cx="244476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4" name=""/>
            <p:cNvSpPr/>
            <p:nvPr/>
          </p:nvSpPr>
          <p:spPr>
            <a:xfrm>
              <a:off x="779040" y="2209680"/>
              <a:ext cx="450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Or, solve an overdetermined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in least squares se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57200" y="4038480"/>
            <a:ext cx="8153280" cy="14353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orem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s near a matrix that has an eigen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actly corresponds to staircase block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th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the Jacobian of H(U,S) is of full ra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71960" y="556272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-- </a:t>
            </a: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ill-posedness is remov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79080" y="61722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-- </a:t>
            </a: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the</a:t>
            </a:r>
            <a:r>
              <a:rPr b="0" lang="en-GB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onotype Corsiva"/>
              </a:rPr>
              <a:t>Gauss-Newton iteration locally converg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399880" y="64832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6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dur="indefinite" fill="hold">
                      <p:stCondLst>
                        <p:cond delay="indefinite"/>
                      </p:stCondLst>
                      <p:childTnLst>
                        <p:par>
                          <p:cTn id="10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28000" y="387360"/>
            <a:ext cx="49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two-stage strategy for computing JC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727280"/>
            <a:ext cx="7848720" cy="764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ge I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termine the Jordan structur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l approximation to the eigenvalu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16840" y="3429000"/>
            <a:ext cx="75006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ge II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ve the reformulated minimiz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each eigenvalue, subject to the struc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traint, using the Gauss-Newtion it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247600" y="6407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7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504000" y="1843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70000" y="1327320"/>
            <a:ext cx="68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 Ill-posed problems may be reformulat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 well-posed and well condition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49560" y="274320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 A two stage approach may help 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problem accurately: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- determine the structure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- solve a constraint min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30040" y="65278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8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228600"/>
            <a:ext cx="38642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oeff. in hardware preci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2372413541474339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6769106952411337454399963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2172761819276401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49770878785534292085497902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8301797299876048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1224804578100165918125988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1752334476926802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322877366696170346675905607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2287403830189369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867494321512872014609897301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1948248893292683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656173812444881606761078561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1105000815739832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160421030842346004516504397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4145543840147470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94408790351749988522138921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9890516368573661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3136597094378345149398634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1359954781944210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2769888752033328388149419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Arial Narrow"/>
                <a:ea typeface="Arial Unicode MS"/>
              </a:rPr>
              <a:t>8207431937814399</a:t>
            </a:r>
            <a:r>
              <a:rPr b="0" lang="en-GB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22984617063027133130232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191120" y="353880"/>
            <a:ext cx="4724280" cy="2835000"/>
            <a:chOff x="4191120" y="353880"/>
            <a:chExt cx="4724280" cy="2835000"/>
          </a:xfrm>
        </p:grpSpPr>
        <p:sp>
          <p:nvSpPr>
            <p:cNvPr id="77" name=""/>
            <p:cNvSpPr/>
            <p:nvPr/>
          </p:nvSpPr>
          <p:spPr>
            <a:xfrm>
              <a:off x="5181480" y="353880"/>
              <a:ext cx="3733920" cy="2835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 Narrow"/>
                </a:rPr>
                <a:t>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“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ttainable” roo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072753787571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90310297334521591185287207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0.4223446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48788787166815198898160900915499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0.4223446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48788787166815198898160900915499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2.603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418941910394555618569229522806448999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2.603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418941910394555618569229522806448999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2.603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418941910394555618569229522806448999</a:t>
              </a:r>
              <a:r>
                <a:rPr b="0" lang="en-GB" sz="1400" spc="-1" strike="noStrike">
                  <a:solidFill>
                    <a:srgbClr val="777777"/>
                  </a:solidFill>
                  <a:latin typeface="Arial Narrow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71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052418374787328850360528234626914040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71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052418374787328850360528234626914040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71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052418374787328850360528234626914040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 Narrow"/>
                </a:rPr>
                <a:t>1.71</a:t>
              </a:r>
              <a:r>
                <a:rPr b="0" lang="en-GB" sz="1400" spc="-1" strike="noStrike">
                  <a:solidFill>
                    <a:srgbClr val="c0c0c0"/>
                  </a:solidFill>
                  <a:latin typeface="Arial Narrow"/>
                </a:rPr>
                <a:t>052418374787328850360528234626914040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1120" y="1496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437200" y="594360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ighest multiplicity is only 4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3886200"/>
            <a:ext cx="74674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multiplicity struc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Verdana"/>
              </a:rPr>
              <a:t>[1,2,3,4]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com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[</a:t>
            </a:r>
            <a:r>
              <a:rPr b="0" lang="en-GB" sz="2400" spc="-1" strike="noStrike">
                <a:solidFill>
                  <a:srgbClr val="0000cc"/>
                </a:solidFill>
                <a:latin typeface="Verdana"/>
              </a:rPr>
              <a:t>1,1,1,1,1,1,1,1,1,1]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---- typical ill-pose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23080" y="640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4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9600" y="26496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polynom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48120" y="609480"/>
                <a:ext cx="4190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91920" y="1143000"/>
            <a:ext cx="44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th coefficients in hardware preci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4480" y="1981080"/>
            <a:ext cx="6861600" cy="3810240"/>
            <a:chOff x="834480" y="1981080"/>
            <a:chExt cx="6861600" cy="38102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616040" y="2714760"/>
              <a:ext cx="6080040" cy="30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834480" y="1981080"/>
              <a:ext cx="33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Sans Unicode"/>
                </a:rPr>
                <a:t>The computed roots:</a:t>
              </a:r>
              <a:r>
                <a:rPr b="0" lang="en-GB" sz="18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817720" y="3973680"/>
            <a:ext cx="3177000" cy="459720"/>
            <a:chOff x="2817720" y="3973680"/>
            <a:chExt cx="3177000" cy="459720"/>
          </a:xfrm>
        </p:grpSpPr>
        <p:sp>
          <p:nvSpPr>
            <p:cNvPr id="89" name=""/>
            <p:cNvSpPr/>
            <p:nvPr/>
          </p:nvSpPr>
          <p:spPr>
            <a:xfrm>
              <a:off x="2817720" y="3973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30680" y="3973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45080" y="3973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35800" y="3973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8623080" y="64832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5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295280" y="1015920"/>
            <a:ext cx="6248520" cy="465120"/>
            <a:chOff x="1295280" y="1015920"/>
            <a:chExt cx="6248520" cy="46512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295280" y="1015920"/>
                  <a:ext cx="624852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y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z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xz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1295280" y="1015920"/>
              <a:ext cx="6248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1523880"/>
                <a:ext cx="66294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y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" name=""/>
          <p:cNvGrpSpPr/>
          <p:nvPr/>
        </p:nvGrpSpPr>
        <p:grpSpPr>
          <a:xfrm>
            <a:off x="1371600" y="2362320"/>
            <a:ext cx="5173560" cy="581400"/>
            <a:chOff x="1371600" y="2362320"/>
            <a:chExt cx="5173560" cy="5814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733920" y="2362320"/>
                  <a:ext cx="281124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xz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1371600" y="2362320"/>
              <a:ext cx="231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GCD( f, g )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38280" y="4724280"/>
            <a:ext cx="3913200" cy="509760"/>
            <a:chOff x="2438280" y="4724280"/>
            <a:chExt cx="3913200" cy="50976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6095880" y="4800600"/>
                  <a:ext cx="2556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2438280" y="4724280"/>
                  <a:ext cx="357984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CD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+</m:t>
                      </m:r>
                      <m:r>
                        <m:t xml:space="preserve">εp</m:t>
                      </m:r>
                      <m:r>
                        <m:t xml:space="preserve">,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δq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" name=""/>
          <p:cNvGrpSpPr/>
          <p:nvPr/>
        </p:nvGrpSpPr>
        <p:grpSpPr>
          <a:xfrm>
            <a:off x="897840" y="3581280"/>
            <a:ext cx="5379120" cy="509760"/>
            <a:chOff x="897840" y="3581280"/>
            <a:chExt cx="5379120" cy="509760"/>
          </a:xfrm>
        </p:grpSpPr>
        <p:sp>
          <p:nvSpPr>
            <p:cNvPr id="106" name=""/>
            <p:cNvSpPr/>
            <p:nvPr/>
          </p:nvSpPr>
          <p:spPr>
            <a:xfrm>
              <a:off x="897840" y="3581280"/>
              <a:ext cx="376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Under tiny perturbation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5029200" y="3581280"/>
                  <a:ext cx="12477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εp</m:t>
                      </m:r>
                      <m:r>
                        <m:t xml:space="preserve">,</m:t>
                      </m:r>
                      <m:r>
                        <m:t xml:space="preserve">δ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8699400" y="64832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6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1040" y="38088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rdan Canonical Form (JC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1880" y="914400"/>
            <a:ext cx="5059080" cy="2590920"/>
            <a:chOff x="1181880" y="914400"/>
            <a:chExt cx="5059080" cy="2590920"/>
          </a:xfrm>
        </p:grpSpPr>
        <p:grpSp>
          <p:nvGrpSpPr>
            <p:cNvPr id="111" name=""/>
            <p:cNvGrpSpPr/>
            <p:nvPr/>
          </p:nvGrpSpPr>
          <p:grpSpPr>
            <a:xfrm>
              <a:off x="1319760" y="1447920"/>
              <a:ext cx="4509360" cy="2057400"/>
              <a:chOff x="1319760" y="1447920"/>
              <a:chExt cx="4509360" cy="20574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2657880" y="1447920"/>
                <a:ext cx="3171240" cy="2057400"/>
                <a:chOff x="2657880" y="1447920"/>
                <a:chExt cx="3171240" cy="20574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895480" y="1447920"/>
                  <a:ext cx="76320" cy="2057400"/>
                </a:xfrm>
                <a:custGeom>
                  <a:avLst/>
                  <a:gdLst>
                    <a:gd name="textAreaLeft" fmla="*/ 22320 w 76320"/>
                    <a:gd name="textAreaRight" fmla="*/ 76320 w 76320"/>
                    <a:gd name="textAreaTop" fmla="*/ 85680 h 2057400"/>
                    <a:gd name="textAreaBottom" fmla="*/ 1971720 h 2057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70880" y="2666880"/>
                  <a:ext cx="1384560" cy="4590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   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     </a:t>
                  </a: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657880" y="1447920"/>
                  <a:ext cx="1582560" cy="64152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   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1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     </a:t>
                  </a: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   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          </a:t>
                  </a: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61400" y="2133720"/>
                  <a:ext cx="1384560" cy="4590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   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     </a:t>
                  </a: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650120" y="3200400"/>
                  <a:ext cx="1179000" cy="276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410080" y="1447920"/>
                  <a:ext cx="76320" cy="2057400"/>
                </a:xfrm>
                <a:custGeom>
                  <a:avLst/>
                  <a:gdLst>
                    <a:gd name="textAreaLeft" fmla="*/ 0 w 76320"/>
                    <a:gd name="textAreaRight" fmla="*/ 53640 w 76320"/>
                    <a:gd name="textAreaTop" fmla="*/ 85680 h 2057400"/>
                    <a:gd name="textAreaBottom" fmla="*/ 1971720 h 2057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1319760" y="2133720"/>
                <a:ext cx="1282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3200" spc="-1" strike="noStrike">
                    <a:solidFill>
                      <a:srgbClr val="000000"/>
                    </a:solidFill>
                    <a:latin typeface="Verdana"/>
                  </a:rPr>
                  <a:t>AX = 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181880" y="914400"/>
              <a:ext cx="50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</a:rPr>
                <a:t>Every eigenvalue corresponds to a Jordan 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02760" y="3733920"/>
            <a:ext cx="5412240" cy="447480"/>
            <a:chOff x="302760" y="3733920"/>
            <a:chExt cx="5412240" cy="447480"/>
          </a:xfrm>
        </p:grpSpPr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3581280" y="3733920"/>
                  <a:ext cx="213372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ε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302760" y="3759120"/>
              <a:ext cx="293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</a:rPr>
                <a:t>Under arbitrary perturb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19320" y="4343400"/>
            <a:ext cx="4655160" cy="2057400"/>
            <a:chOff x="1219320" y="4343400"/>
            <a:chExt cx="4655160" cy="2057400"/>
          </a:xfrm>
        </p:grpSpPr>
        <p:sp>
          <p:nvSpPr>
            <p:cNvPr id="125" name=""/>
            <p:cNvSpPr/>
            <p:nvPr/>
          </p:nvSpPr>
          <p:spPr>
            <a:xfrm>
              <a:off x="2895480" y="4343400"/>
              <a:ext cx="76320" cy="20574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51200" y="6095880"/>
              <a:ext cx="1223280" cy="301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343400"/>
              <a:ext cx="76320" cy="2057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41360" y="5638680"/>
              <a:ext cx="1223280" cy="301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46280" y="5867280"/>
              <a:ext cx="1223280" cy="301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36800" y="5410080"/>
              <a:ext cx="1223280" cy="301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1880" y="5181480"/>
              <a:ext cx="1223280" cy="301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6960" y="4952880"/>
              <a:ext cx="1223280" cy="301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22400" y="4724280"/>
              <a:ext cx="1223280" cy="301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17480" y="4419720"/>
              <a:ext cx="1223280" cy="301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219320" y="5029200"/>
                  <a:ext cx="16002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acc>
                        <m:accPr>
                          <m:chr m:val="~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9680400" y="1752480"/>
            <a:ext cx="1223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77120" y="5105520"/>
            <a:ext cx="2085120" cy="964800"/>
            <a:chOff x="6477120" y="5105520"/>
            <a:chExt cx="2085120" cy="96480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477120" y="5105520"/>
                  <a:ext cx="498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906240" y="5199120"/>
              <a:ext cx="165600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Monotype Corsiva"/>
                </a:rPr>
                <a:t>--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near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rank defic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022800" y="2362320"/>
            <a:ext cx="3204360" cy="2130120"/>
            <a:chOff x="6022800" y="2362320"/>
            <a:chExt cx="3204360" cy="2130120"/>
          </a:xfrm>
        </p:grpSpPr>
        <p:sp>
          <p:nvSpPr>
            <p:cNvPr id="141" name=""/>
            <p:cNvSpPr/>
            <p:nvPr/>
          </p:nvSpPr>
          <p:spPr>
            <a:xfrm flipH="1">
              <a:off x="7084800" y="3581280"/>
              <a:ext cx="38412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022800" y="2362320"/>
              <a:ext cx="3204360" cy="2130120"/>
              <a:chOff x="6022800" y="2362320"/>
              <a:chExt cx="3204360" cy="21301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6022800" y="2362320"/>
                <a:ext cx="3204360" cy="2130120"/>
                <a:chOff x="6022800" y="2362320"/>
                <a:chExt cx="3204360" cy="2130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8003880" y="3276720"/>
                  <a:ext cx="12232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012440" y="3276720"/>
                  <a:ext cx="11790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23000" y="2666880"/>
                  <a:ext cx="12232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22800" y="3276720"/>
                  <a:ext cx="12232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13160" y="2362320"/>
                  <a:ext cx="12232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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3160" y="4191120"/>
                  <a:ext cx="12232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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3680" y="3886200"/>
                  <a:ext cx="12232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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3000" y="3733920"/>
                  <a:ext cx="12232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327360" y="2666880"/>
                  <a:ext cx="12232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1371600"/>
                      <a:tab algn="l" pos="2286000"/>
                      <a:tab algn="l" pos="3200400"/>
                      <a:tab algn="l" pos="4114800"/>
                      <a:tab algn="l" pos="5029200"/>
                      <a:tab algn="l" pos="5943600"/>
                      <a:tab algn="l" pos="6858000"/>
                      <a:tab algn="l" pos="7772400"/>
                      <a:tab algn="l" pos="8686800"/>
                      <a:tab algn="l" pos="9601200"/>
                      <a:tab algn="l" pos="105156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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 flipV="1">
                <a:off x="7696080" y="2970000"/>
                <a:ext cx="38124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7620120" y="2665440"/>
                <a:ext cx="1440" cy="61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7084800" y="2970000"/>
                <a:ext cx="3841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780240" y="3429000"/>
                <a:ext cx="689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20120" y="3657600"/>
                <a:ext cx="14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96080" y="3505320"/>
                <a:ext cx="4572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772400" y="3429000"/>
                <a:ext cx="609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8699400" y="640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7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2120" y="533520"/>
            <a:ext cx="6534720" cy="1191240"/>
            <a:chOff x="762120" y="533520"/>
            <a:chExt cx="6534720" cy="1191240"/>
          </a:xfrm>
        </p:grpSpPr>
        <p:sp>
          <p:nvSpPr>
            <p:cNvPr id="162" name=""/>
            <p:cNvSpPr/>
            <p:nvPr/>
          </p:nvSpPr>
          <p:spPr>
            <a:xfrm>
              <a:off x="762120" y="533520"/>
              <a:ext cx="24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 u="sng">
                  <a:solidFill>
                    <a:srgbClr val="3333cc"/>
                  </a:solidFill>
                  <a:uFillTx/>
                  <a:latin typeface="Verdana"/>
                </a:rPr>
                <a:t>The challenge</a:t>
              </a:r>
              <a:r>
                <a:rPr b="0" lang="en-GB" sz="2400" spc="-1" strike="noStrike">
                  <a:solidFill>
                    <a:srgbClr val="3333cc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64880" y="533520"/>
              <a:ext cx="353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Ill-posed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numerical compu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480320" y="269892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data error is common in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61600" y="342900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round-off error is inev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1480" y="4268880"/>
            <a:ext cx="65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Ill-posedness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ll-condition to the 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75720" y="64832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8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